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5FCB-8800-41B1-8273-AF53EFA30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EDEE-A875-49DD-8C1C-EB062268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AC27D6-3F2D-4A46-821F-93640528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18611-9CF5-4629-A8B7-167CC247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5B5333-5DAC-48E4-BFEB-B8D0863C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864D74-7C52-4229-831C-CFA63DE5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88DF24-7E2B-43CE-9D83-9B65CFBF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3EE45C-7534-4153-BBD2-11B07BAB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A4A701-DBEC-4484-8446-4FB7F77D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5E5CE7-B5B6-4000-8E5B-D19DC43B1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147F95-9ECE-46B4-A2B1-D35CE0B8C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72AE-7FC3-42F9-A0D3-5FF20EAAC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82E0-0510-432A-B642-E7832B513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5C7B-7D8E-4C61-A1F4-700B105D6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918A-E100-4634-AEA0-A9E28AC9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C2368-2110-4DA3-A9DD-5FD85D6A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EEDC-E2EF-4698-838E-203CF59F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45D8-1478-42C3-972A-C0A3260A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796D-40B9-4955-89BF-E1B0CEAA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E1B3-CD1A-4F99-8197-2D4B9DCB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1A8F-42B4-4872-8112-D2902EA5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23433-9225-4B98-A23C-F58552D4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6735-375B-44B5-8031-64C6F916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F965-A357-401A-B43B-6CC3B91E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24AED-D9EE-494B-8B96-DF9E1E839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136BB-D0BC-41E8-A09D-1CA21F983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CFC84-5243-4AA4-9ED7-612FF1701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73D2B-1655-492B-95EE-2BE50B86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22F32-B41D-4FCF-89BD-F9969E85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A72C5-2159-4D4D-AEA7-C657EC98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72F9D-4001-4C9F-9ED3-8279FDCC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87DC-E53A-470B-B30F-2F85B398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2B989-BEDE-4FA5-89D7-4B31FB33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2CE0C-D207-4A49-8ADB-8246FE54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2636C-C81E-4ADE-9884-EC12EA4A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EBF29-EF49-4778-B83F-3012740A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9AE86-29E7-4338-AB11-8EFE6E81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D7911-1DD9-4F30-83C8-131FD2373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40E3D-2FF5-4960-B098-3F52D9007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82458-E60A-474D-9550-E7346DA5F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CB5D1-DE91-4755-A971-2E3D7091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FFF7D-3BFB-4E29-A6BF-1BF16CAD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3BCD-3B1F-4EB8-89AD-EBE7235B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5BEA9-7E2E-4572-B3D7-2ED7027C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9907B-D150-410D-8C3D-BE6066BD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E66C1-1093-4715-9C59-A810ABFA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B3BEC-EFFB-4CF1-9E0B-2EA511CE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9E621-1E64-4FC8-9816-61678E09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E1107-ADB9-4334-9883-BD7923AF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482FE-6852-429F-9997-A7033C46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E9BB2-EA27-43FB-9EAD-1534F1C65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8187C-94C8-4AD2-88E6-A699D94EE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83A5C-5BEB-41C1-A73B-22640DE33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D61D-2A50-4026-A4C6-A61425AF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680E6-E37A-4E48-813C-F3A09B0B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4EDBD-93DB-4D6E-9781-399A359D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7D38D-48B8-4D3C-BA47-ADDA3346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F6D3D-84A0-40C9-92A6-ACD2E96F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02621-77E6-4CE5-86E9-DE7ABCA1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5F189-750D-4A09-B9F1-C80030E2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E2D55-3C3B-4EFE-B457-11579D7C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0A566-AD12-41C3-802C-E76C946A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69E1C-0F07-4915-A0E6-88C77A83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5184A-4223-4B03-AB9D-9AC93E50C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75D7-41BF-484D-A39D-6CD13D8F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A9790-74AA-4B16-B0C0-A625B5565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95303-56D4-44D8-8478-95029218A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7C8EB-4767-4236-8F5D-F9DFB3B0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3C027-E761-4C64-8B97-78206F07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C0742-9B84-4B67-B07E-8EEEB159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2A82E-ED9B-4FCB-A79F-866AF0D8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C0985-71AF-4120-AE1F-12EC6432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24A02-4343-42AB-89B6-EB04B64E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8D3EA-8176-48AF-AE6B-368DF5CB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A635C-4D82-4B43-9038-14529EC4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67E6-E893-4018-840B-702B10CC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56297-5901-43F1-AD02-69B39F7D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ECF0A-A9F0-4B3A-A237-015983C77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49EAF-4F85-4E2B-A7DC-E081B20EC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A722D-0B95-4911-9410-C09044959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57B25-1E41-4064-B1BC-1FE795CB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23525-C8A4-423C-B83E-43BB62C5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5C607-013F-43DF-88B8-A55833B9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78605-0932-49B4-A0C0-7CC63C94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B8889-6E2D-44A5-843E-6BDE6343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6355D-AB49-491E-A11C-8CA51210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E4DE-38E3-4DCB-87F2-6C37FE52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74AE6-D35F-48B1-8063-2D403168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054E2-C19D-47BF-913B-041B653E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D5B4D-D9F5-4F8A-B358-C79CC90BF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B3219-D925-4214-A5E9-501ED7F89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0786B-05A9-4E1D-8214-1C1674CCA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0C569-408B-4057-9706-6CFC6D434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10256-9BB8-47EC-AF1F-0D6BD874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A44D1B-A546-4916-B84F-E0E9F08B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3ED2B-11C0-4548-B118-3046AD8B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7156D-19FC-4405-9B65-E7968B9D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D2B2-6F71-48EF-B6D5-F5B1FA70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0B195-D943-4F6A-AE81-1297A5F4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F33F8-47A8-4CD5-BDED-8B8328C1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397BA-0F83-44EA-8510-7D16F9EC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BEA2D-7BAE-493E-8CCE-0D3C9530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B2B14-A7E8-4A07-B7C8-F8B98D72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20A30-9727-4A05-BBC1-0A924BF69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5AC29-CCB1-46B0-B2C1-306870440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F041C-0C92-427C-ADE8-0E09AE5F7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8266AF-8FDF-45C5-8BB9-2ECDB42A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4A1AF8-7175-49FD-A53D-B3512DEE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B844-9E82-426A-9BDA-305B0E8C98F2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A539-54A4-4036-9278-B1164D17D906}" type="slidenum">
              <a:rPr b="0" lang="zh-TW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ABAC-D9BA-46E5-A05A-44E51CEDCA01}" type="slidenum">
              <a:rPr b="0" lang="zh-TW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93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95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200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206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9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210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14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18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D764-E5DD-47BE-BB51-A61A1CF4DA01}" type="slidenum">
              <a:rPr b="0" lang="zh-TW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277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278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92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296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300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304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308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PlaceHolder 1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F7B3-C9CC-45F3-8AF5-5A7626D1BA2E}" type="slidenum">
              <a:rPr b="0" lang="zh-TW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59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96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DDD0-8717-41E2-AFEE-E5B6D43D601F}" type="slidenum"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40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77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22CF-E8E9-4433-B5BA-36B69CA5C687}" type="slidenum"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520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F5C4-F043-46EB-AF5A-026A974A9C99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567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PlaceHolder 1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F400-7195-44DF-B124-5F9C9FF513E2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7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468360" y="4292640"/>
            <a:ext cx="2252520" cy="218916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2"/>
          <a:stretch/>
        </p:blipFill>
        <p:spPr>
          <a:xfrm>
            <a:off x="5580000" y="4292640"/>
            <a:ext cx="3024360" cy="217476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3"/>
          <a:stretch/>
        </p:blipFill>
        <p:spPr>
          <a:xfrm>
            <a:off x="468360" y="907920"/>
            <a:ext cx="2857320" cy="183852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4716360" y="692280"/>
            <a:ext cx="3888000" cy="243684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5"/>
          <a:stretch/>
        </p:blipFill>
        <p:spPr>
          <a:xfrm>
            <a:off x="2700360" y="1628640"/>
            <a:ext cx="2995560" cy="367200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6"/>
          <a:stretch/>
        </p:blipFill>
        <p:spPr>
          <a:xfrm>
            <a:off x="6443640" y="2997360"/>
            <a:ext cx="2381400" cy="16095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 txBox="1"/>
          <p:nvPr/>
        </p:nvSpPr>
        <p:spPr>
          <a:xfrm>
            <a:off x="755640" y="1557360"/>
            <a:ext cx="7777080" cy="3384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00">
                    <a:alpha val="44000"/>
                  </a:srgbClr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新細明體"/>
              </a:rPr>
              <a:t>時事週－美伊戰爭</a:t>
            </a:r>
            <a:endParaRPr b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00">
                  <a:alpha val="44000"/>
                </a:srgbClr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77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770" fill="hold"/>
                                        <p:tgtEl>
                                          <p:spTgt spid="6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250" autoRev="1" fill="hold"/>
                                        <p:tgtEl>
                                          <p:spTgt spid="6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3" name=""/>
          <p:cNvGraphicFramePr/>
          <p:nvPr/>
        </p:nvGraphicFramePr>
        <p:xfrm>
          <a:off x="611280" y="476280"/>
          <a:ext cx="7812000" cy="6126120"/>
        </p:xfrm>
        <a:graphic>
          <a:graphicData uri="http://schemas.openxmlformats.org/drawingml/2006/table">
            <a:tbl>
              <a:tblPr/>
              <a:tblGrid>
                <a:gridCol w="1368360"/>
                <a:gridCol w="6443640"/>
              </a:tblGrid>
              <a:tr h="612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91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以美國為首的多國部隊發動「沙漠風暴」行動，在一個月後打敗伊拉克，海灣戰爭宣告結束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戰事停火後，聯合國安理會通過決議，要求正式劃定科、伊邊界，並就戰爭賠償、武器銷毀作出了強制性規定，同時成立了特別委員會，對伊武器生產進行長期監察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伊拉克大批難民湧入土耳其、伊朗邊境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4" name=""/>
          <p:cNvGraphicFramePr/>
          <p:nvPr/>
        </p:nvGraphicFramePr>
        <p:xfrm>
          <a:off x="395280" y="333360"/>
          <a:ext cx="8229600" cy="6085080"/>
        </p:xfrm>
        <a:graphic>
          <a:graphicData uri="http://schemas.openxmlformats.org/drawingml/2006/table">
            <a:tbl>
              <a:tblPr/>
              <a:tblGrid>
                <a:gridCol w="1736640"/>
                <a:gridCol w="6492960"/>
              </a:tblGrid>
              <a:tr h="242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91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美、英、法以阻止伊鎮壓國內少數民族為由，在伊北部設立「安全區」，要求伊軍隊及行政機構撤出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2002</a:t>
                      </a:r>
                      <a:r>
                        <a:rPr b="1" lang="zh-CN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美國總統布殊稱伊拉克、伊朗、北韓為「邪惡軸心」，以伊拉克擁有大殺傷力武器、與恐怖組織有密切連繫，及危害國際安全為由，推動國際社會向伊拉克動武，推翻撒達姆政權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5" name=""/>
          <p:cNvGraphicFramePr/>
          <p:nvPr/>
        </p:nvGraphicFramePr>
        <p:xfrm>
          <a:off x="611280" y="907920"/>
          <a:ext cx="8229600" cy="4179960"/>
        </p:xfrm>
        <a:graphic>
          <a:graphicData uri="http://schemas.openxmlformats.org/drawingml/2006/table">
            <a:tbl>
              <a:tblPr/>
              <a:tblGrid>
                <a:gridCol w="1736640"/>
                <a:gridCol w="6492960"/>
              </a:tblGrid>
              <a:tr h="417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2003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美國繼續在聯合國推動向伊拉克出兵決議，但遭到法國、俄羅斯、中國等安理會成員反對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(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請參考：聯合國安全理事會各理事國對出兵伊拉克的立場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)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。這些國家要求給予武器檢查員更多時間，以確定伊拉克有否發展大殺傷力武器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7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800" spc="-1" strike="noStrike">
                <a:solidFill>
                  <a:srgbClr val="ff3399"/>
                </a:solidFill>
                <a:latin typeface="Arial"/>
              </a:rPr>
              <a:t>支持及反對向伊拉克動武的理據</a:t>
            </a: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1187280" y="1278000"/>
          <a:ext cx="7129800" cy="5181480"/>
        </p:xfrm>
        <a:graphic>
          <a:graphicData uri="http://schemas.openxmlformats.org/drawingml/2006/table">
            <a:tbl>
              <a:tblPr/>
              <a:tblGrid>
                <a:gridCol w="3565800"/>
                <a:gridCol w="3564000"/>
              </a:tblGrid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支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反對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戰爭的理據是否合乎正義及公義的原則？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美國指伊拉克是邪惡軸心國，擁有大殺傷力武器，及與策劃恐怖活動的團體有密切連繫，對國際社會構成重大威脅，故需先發制人，阻止伊拉克發難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美英指薩達姆政權違反人權，故此必須清除薩達姆，改變伊拉克政權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根據聯合國憲章，國家可以在受到武力襲擊時，行使自衛的權利，發動軍事行動。但除此之外，國家需盡量透過「和平行動」，解決爭端。在此前提下，聯合國沒有認同國家可以以「先發制人」為由，發動戰爭 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(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請參考：聯合國憲章第鏖六及第七章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)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對於伊拉克擁有大殺傷力武器及與恐怖組織有連繫的指控，美國未能提出有力證據，使人信服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薩達姆違反人權紀錄不容置疑。但不少社會團體均認為在促進政權改變的過程中，應透過人民力量，以及促進國內民主發展，而非借助戰爭達成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8" name=""/>
          <p:cNvGraphicFramePr/>
          <p:nvPr/>
        </p:nvGraphicFramePr>
        <p:xfrm>
          <a:off x="1523880" y="1397160"/>
          <a:ext cx="6719760" cy="4695480"/>
        </p:xfrm>
        <a:graphic>
          <a:graphicData uri="http://schemas.openxmlformats.org/drawingml/2006/table">
            <a:tbl>
              <a:tblPr/>
              <a:tblGrid>
                <a:gridCol w="3359880"/>
                <a:gridCol w="3359880"/>
              </a:tblGrid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支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反對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發起戰爭的群體是否一個有充足法理基礎的群體？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美國上下議院均通過對伊拉克動武，並有民意支持出兵決定為基礎。故此，即使沒有聯合國的支持，美國仍有足夠的法理基礎出兵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聯合國是全球最高權力的機構，唯獨聯合國才有足夠的法理基礎出兵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全球來自不同國家的人民上街抗議攻打伊拉克，他們為數有千萬之多，可見攻打伊拉克的民意基礎已受動搖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(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請參考：反戰連結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)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有評論指美國本身擁有大量大殺傷力武器，同時也不願意簽署多個限制武器的條約，其發動戰爭的合法性受到質疑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 txBox="1"/>
          <p:nvPr/>
        </p:nvSpPr>
        <p:spPr>
          <a:xfrm>
            <a:off x="755640" y="981000"/>
            <a:ext cx="7489800" cy="2590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細明體"/>
              </a:rPr>
              <a:t>你對此戰爭有什麼意見呢？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細明體"/>
              </a:rPr>
              <a:t>反戰？主戰？不知道？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4500720" y="3429000"/>
            <a:ext cx="417672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dbbd71"/>
                </a:solidFill>
                <a:latin typeface="Arial"/>
              </a:rPr>
              <a:t>布殊自信奉上帝「替天行道」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發制人攻伊……布殊相信這是歷史必然發展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曾經令他停止酗酒的基督教信仰，是使他出奇平靜自信的一大原因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布殊亦說：「信仰撐住了我，因為我天天祈禱。」</a:t>
            </a:r>
            <a:r>
              <a:rPr b="1" lang="zh-TW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5867280" y="1844640"/>
            <a:ext cx="2754360" cy="27194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4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10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1000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1000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dbbd71"/>
                </a:solidFill>
                <a:latin typeface="Arial"/>
              </a:rPr>
              <a:t>布殊自信奉上帝「替天行道」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5184720" cy="57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ahoma"/>
              </a:rPr>
              <a:t>雖然布殊從沒明言，但他確暗示相信自己是受到神意的啟示，「奉上帝之名替天行道」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布殊……在執行上帝的意旨。《聖經》說領袖是由上帝任命的，只要這位領袖是真的追隨主，主便會選定他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新細明體"/>
              </a:rPr>
              <a:t>資料來源︰明報、</a:t>
            </a:r>
            <a:r>
              <a:rPr b="1" lang="zh-TW" sz="2000" spc="-1" strike="noStrike">
                <a:solidFill>
                  <a:srgbClr val="ffffff"/>
                </a:solidFill>
                <a:latin typeface="新細明體"/>
              </a:rPr>
              <a:t>Newswee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6012000" y="2492280"/>
            <a:ext cx="2808000" cy="202428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在上有權柄的， 人人當順服他。 因為沒有權柄不是出於神的。</a:t>
            </a:r>
            <a:r>
              <a:rPr b="1" lang="zh-TW" sz="2800" spc="-1" strike="noStrike">
                <a:solidFill>
                  <a:srgbClr val="ff9933"/>
                </a:solidFill>
                <a:latin typeface="新細明體"/>
              </a:rPr>
              <a:t>凡掌權的都是神所命的。所以抗拒掌權的，就是抗拒神的命。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 抗拒的必自取刑罰。作官的原不是叫行善的懼怕， 乃是叫作惡的懼怕。你願意不懼怕掌權的麼。你只要行善， 就可得他的稱讚。</a:t>
            </a:r>
            <a:r>
              <a:rPr b="1" lang="zh-TW" sz="2800" spc="-1" strike="noStrike">
                <a:solidFill>
                  <a:srgbClr val="ff9933"/>
                </a:solidFill>
                <a:latin typeface="新細明體"/>
              </a:rPr>
              <a:t>因為他是神的用人， 是與你有益的。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 你若作惡， 卻當懼怕。 因為他不是空空的佩劍。 他是神的用人， </a:t>
            </a:r>
            <a:r>
              <a:rPr b="1" lang="zh-TW" sz="2800" spc="-1" strike="noStrike">
                <a:solidFill>
                  <a:srgbClr val="ff9933"/>
                </a:solidFill>
                <a:latin typeface="新細明體"/>
              </a:rPr>
              <a:t>是伸冤的， 刑罰那作惡的。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所以你們必須順服， 不但是因為刑罰， 也是因為良心。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( 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羅馬書 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13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︰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5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你要題醒眾人，叫他們</a:t>
            </a:r>
            <a:r>
              <a:rPr b="1" lang="zh-TW" sz="3200" spc="-1" strike="noStrike">
                <a:solidFill>
                  <a:srgbClr val="ff9933"/>
                </a:solidFill>
                <a:latin typeface="新細明體"/>
              </a:rPr>
              <a:t>順服作官的，掌權的，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遵他的命，</a:t>
            </a:r>
            <a:r>
              <a:rPr b="1" lang="zh-TW" sz="3200" spc="-1" strike="noStrike">
                <a:solidFill>
                  <a:srgbClr val="ff9933"/>
                </a:solidFill>
                <a:latin typeface="新細明體"/>
              </a:rPr>
              <a:t>豫備行各樣的善事。不要毀謗，不要爭競， 總要和平， 向眾人大顯溫柔。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( 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多 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3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︰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1-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問題討論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你認同布殊的言論嗎？為什麼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基督徒一定要反戰嗎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" dur="20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7" dur="2000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Arial"/>
              </a:rPr>
              <a:t>時事週－美伊戰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透過週會，可讓團友對此場戰爭有初步的認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讓團友討論和分析此場戰爭，並了解基督徒如何回應此時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66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“</a:t>
            </a: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不可殺人”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 出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20:13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戰爭一定牽渉殺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「他必在列國中施行審判，為許多國民斷定是非。他們要將刀打成犁頭，把槍打成鐮刀；這國不舉刀攻擊那國，他們也不再學習戰事。」以賽亞書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2:4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 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神對世上國家的心意是要解除武裝，和平共處，不再互相攻伐殺戮</a:t>
            </a:r>
            <a:r>
              <a:rPr b="1" lang="zh-TW" sz="3200" spc="-1" strike="noStrike">
                <a:solidFill>
                  <a:srgbClr val="6666ff"/>
                </a:solidFill>
                <a:latin typeface="Verdana"/>
              </a:rPr>
              <a:t>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66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Verdana"/>
              </a:rPr>
              <a:t>神的心意是天地之間都能和諧共處</a:t>
            </a: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「豺狼必與綿羊羔同居、豹子與山羊羔同臥。少壯獅子、與牛犢、並肥畜同群．小孩子要牽引他們。 牛必與熊同食。牛犢必與小熊同臥。獅子必喫草與牛一樣。 喫奶的孩子必玩耍在虺蛇的洞口、斷奶的嬰兒必按手在毒蛇的穴上。 在我聖山的遍處、這一切都不傷人、不害物．因為認識耶和華的知識要充滿遍地、好像水充滿洋海一般。」以賽亞書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11:6-9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4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4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4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神並不贊成用武力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約書亞記六章－神帶領以色人入迦南地，但並不表示神贊成用武力。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e.g.: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攻打耶利哥城時之事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Verdana"/>
              </a:rPr>
              <a:t>神自然會帶領我得勝，用暴力是對神不信任的表現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耶穌在十架寧願接受别人暴力，也不以暴易暴。被宰殺的羔羊卻要在世上作王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(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啟示錄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99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4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4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400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400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4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400" fill="hold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400" fill="hold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99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1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新細明體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800080"/>
                </a:solidFill>
                <a:latin typeface="新細明體"/>
              </a:rPr>
              <a:t>要以善報惡，自己國家被侵略也不可發動動力戰爭抵抗，用外交及其他和平方式解決問題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新細明體"/>
              </a:rPr>
              <a:t>	</a:t>
            </a:r>
            <a:r>
              <a:rPr b="1" lang="zh-TW" sz="2400" spc="-1" strike="noStrike">
                <a:solidFill>
                  <a:srgbClr val="6666ff"/>
                </a:solidFill>
                <a:latin typeface="新細明體"/>
              </a:rPr>
              <a:t>「你們聽見有話說：‘</a:t>
            </a:r>
            <a:r>
              <a:rPr b="1" lang="zh-TW" sz="2400" spc="-1" strike="noStrike" u="sng">
                <a:solidFill>
                  <a:srgbClr val="6666ff"/>
                </a:solidFill>
                <a:uFillTx/>
                <a:latin typeface="新細明體"/>
              </a:rPr>
              <a:t>以眼還眼，以牙還牙</a:t>
            </a:r>
            <a:r>
              <a:rPr b="1" lang="zh-TW" sz="2400" spc="-1" strike="noStrike">
                <a:solidFill>
                  <a:srgbClr val="6666ff"/>
                </a:solidFill>
                <a:latin typeface="新細明體"/>
              </a:rPr>
              <a:t>。’只是我告訴你們：不要與惡人作對。有人打你的右臉，連左臉也轉過來由他打； 有人想要告你，要拿你的裡衣，連外衣也由他拿去； 有人</a:t>
            </a:r>
            <a:r>
              <a:rPr b="1" lang="zh-TW" sz="2400" spc="-1" strike="noStrike" u="sng">
                <a:solidFill>
                  <a:srgbClr val="6666ff"/>
                </a:solidFill>
                <a:uFillTx/>
                <a:latin typeface="新細明體"/>
              </a:rPr>
              <a:t>強逼你走一里路，你就同他走二里</a:t>
            </a:r>
            <a:r>
              <a:rPr b="1" lang="zh-TW" sz="2400" spc="-1" strike="noStrike">
                <a:solidFill>
                  <a:srgbClr val="6666ff"/>
                </a:solidFill>
                <a:latin typeface="新細明體"/>
              </a:rPr>
              <a:t>； 你們聽見有話說：‘當愛你的鄰舍，恨你的仇敵。’只是我告訴你們：要愛你們的仇敵，為那逼迫你們的禱告。」 </a:t>
            </a:r>
            <a:r>
              <a:rPr b="0" lang="zh-TW" sz="2400" spc="-1" strike="noStrike">
                <a:solidFill>
                  <a:srgbClr val="6666ff"/>
                </a:solidFill>
                <a:latin typeface="新細明體"/>
              </a:rPr>
              <a:t> </a:t>
            </a:r>
            <a:r>
              <a:rPr b="1" lang="zh-TW" sz="2400" spc="-1" strike="noStrike">
                <a:solidFill>
                  <a:srgbClr val="6666ff"/>
                </a:solidFill>
                <a:latin typeface="新細明體"/>
              </a:rPr>
              <a:t>馬太福音</a:t>
            </a:r>
            <a:r>
              <a:rPr b="1" lang="zh-TW" sz="2400" spc="-1" strike="noStrike">
                <a:solidFill>
                  <a:srgbClr val="6666ff"/>
                </a:solidFill>
                <a:latin typeface="新細明體"/>
              </a:rPr>
              <a:t>5:38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4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4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400" fill="hold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400" fill="hold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99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耶穌命彼得收刀入鞘，不可用暴力來保護祂，可見發動戰爭並不是保衛國家的正當方法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「有跟隨耶穌的一個人，伸手拔出刀來，將大祭司的僕人砍了一刀，削掉了他一個耳朵。耶穌對他說：“</a:t>
            </a:r>
            <a:r>
              <a:rPr b="1" lang="zh-TW" sz="2800" spc="-1" strike="noStrike" u="sng">
                <a:solidFill>
                  <a:srgbClr val="6666ff"/>
                </a:solidFill>
                <a:uFillTx/>
                <a:latin typeface="新細明體"/>
              </a:rPr>
              <a:t>收刀入鞘吧！凡動刀的，必死在刀下。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你想，我不能求我父現在為我差遣十二營多天使來嗎？ 」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4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4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4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99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新細明體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耶穌身處在革命時代，卻堅拒用武力革命的方式，而是用奴僕的工作來建立神的國。</a:t>
            </a:r>
            <a:r>
              <a:rPr b="1" lang="zh-TW" sz="2800" spc="-1" strike="noStrike">
                <a:solidFill>
                  <a:srgbClr val="006699"/>
                </a:solidFill>
                <a:latin typeface="新細明體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4211640" y="3573360"/>
            <a:ext cx="352728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4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4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6666"/>
                </a:solidFill>
                <a:latin typeface="Verdana"/>
              </a:rPr>
              <a:t>聖經有限度接受戰爭？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在舊約中，神率領以色列作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以色列人進入迦南地是要透過戰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耶穌有時也不是全用勸導說服敵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約翰福音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2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︰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13-15~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潔淨聖殿一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施洗約翰與士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“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不要以強暴待人，也不要訛詐人，自己有錢糧就當知足”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(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路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3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︰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14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順服政府的掌權者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因為他是神的用人， 是與你有益的。 你若作惡， 卻當懼怕。 因為他不是空空的佩劍。 他是神的用人， 是伸冤的， 刑罰那作惡的。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(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羅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13:4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新約聖經多以戰爭比喻基督徒的生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穿戴神的全副軍裝 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(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弗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6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︰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10-20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6666"/>
                </a:solidFill>
                <a:latin typeface="Verdana"/>
              </a:rPr>
              <a:t>聖經有限度接受戰爭？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66"/>
                </a:solidFill>
                <a:latin typeface="Verdana"/>
              </a:rPr>
              <a:t>什麼是有限度的戰爭？？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1042920" y="2133720"/>
            <a:ext cx="691380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細明體"/>
              </a:rPr>
              <a:t>有限度的戰爭</a:t>
            </a: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細明體"/>
              </a:rPr>
              <a:t>=</a:t>
            </a: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細明體"/>
              </a:rPr>
              <a:t>正義之戰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ffff"/>
                </a:solidFill>
                <a:latin typeface="Arial"/>
              </a:rPr>
              <a:t>正義戰爭的來源</a:t>
            </a: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第四世紀，奧古斯丁在便先啟其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十二世紀，格拉典      將正義戰爭加以系統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到了中世紀末期，正義戰爭已成為思想界的共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天主教官方的立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十六世紀的宗教改革，大部分的基督徒宗派也是接受正戰爭論。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356000" y="2276640"/>
            <a:ext cx="433440" cy="431640"/>
          </a:xfrm>
          <a:prstGeom prst="rightArrow">
            <a:avLst>
              <a:gd name="adj1" fmla="val 50000"/>
              <a:gd name="adj2" fmla="val 251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2" name=""/>
          <p:cNvGraphicFramePr/>
          <p:nvPr/>
        </p:nvGraphicFramePr>
        <p:xfrm>
          <a:off x="395280" y="1989000"/>
          <a:ext cx="5256360" cy="4032360"/>
        </p:xfrm>
        <a:graphic>
          <a:graphicData uri="http://schemas.openxmlformats.org/drawingml/2006/table">
            <a:tbl>
              <a:tblPr/>
              <a:tblGrid>
                <a:gridCol w="1055520"/>
                <a:gridCol w="4200840"/>
              </a:tblGrid>
              <a:tr h="159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國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伊拉克共和國（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The Republic of Iraq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首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巴格達（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Baghdad)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面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44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萬平方公里 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(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面積約為香港的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40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倍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3" name=""/>
          <p:cNvSpPr/>
          <p:nvPr/>
        </p:nvSpPr>
        <p:spPr>
          <a:xfrm>
            <a:off x="1835280" y="76500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600" spc="-1" strike="noStrike">
                <a:solidFill>
                  <a:srgbClr val="000099"/>
                </a:solidFill>
                <a:latin typeface="Times New Roman"/>
              </a:rPr>
              <a:t>伊拉克基本資料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5580000" y="2781360"/>
            <a:ext cx="3003480" cy="32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ffff"/>
                </a:solidFill>
                <a:latin typeface="Arial"/>
              </a:rPr>
              <a:t>正義戰爭的內容</a:t>
            </a: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"/>
              </a:rPr>
              <a:t>開戰條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"/>
              </a:rPr>
              <a:t>開戰原因正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"/>
              </a:rPr>
              <a:t>由最高權威人士批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"/>
              </a:rPr>
              <a:t>戰爭是解決問題的最後途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"/>
              </a:rPr>
              <a:t>戰爭的成功機會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"/>
              </a:rPr>
              <a:t>衡量戰爭的得失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ffff"/>
                </a:solidFill>
                <a:latin typeface="Arial"/>
              </a:rPr>
              <a:t>正義戰爭的內容</a:t>
            </a: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沙場守則 </a:t>
            </a:r>
            <a:r>
              <a:rPr b="1" lang="en-GB" sz="3200" spc="-1" strike="noStrike">
                <a:solidFill>
                  <a:srgbClr val="ffff00"/>
                </a:solidFill>
                <a:latin typeface="新細明體"/>
              </a:rPr>
              <a:t>(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即戰場上的守則</a:t>
            </a:r>
            <a:r>
              <a:rPr b="1" lang="en-GB" sz="3200" spc="-1" strike="noStrike">
                <a:solidFill>
                  <a:srgbClr val="ffff00"/>
                </a:solidFill>
                <a:latin typeface="新細明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堅守“分辨原則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新細明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新細明體"/>
              </a:rPr>
              <a:t>分辨出非軍事設施、非戰鬥人員不可蓄意破壞和傷害。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dbbd71"/>
                </a:solidFill>
                <a:latin typeface="Arial"/>
              </a:rPr>
              <a:t>美伊之戰</a:t>
            </a:r>
            <a:r>
              <a:rPr b="0" lang="zh-TW" sz="4400" spc="-1" strike="noStrike">
                <a:solidFill>
                  <a:srgbClr val="dbbd71"/>
                </a:solidFill>
                <a:latin typeface="Arial"/>
              </a:rPr>
              <a:t>=</a:t>
            </a:r>
            <a:r>
              <a:rPr b="0" lang="zh-TW" sz="4400" spc="-1" strike="noStrike">
                <a:solidFill>
                  <a:srgbClr val="dbbd71"/>
                </a:solidFill>
                <a:latin typeface="Arial"/>
              </a:rPr>
              <a:t>正義戰爭？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美國開戰的原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ff0066"/>
                </a:solidFill>
                <a:latin typeface="新細明體"/>
              </a:rPr>
              <a:t>美國以戰爭真的能達到“反恐”的目的嗎？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戰爭是最後的途徑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ff0066"/>
                </a:solidFill>
                <a:latin typeface="新細明體"/>
              </a:rPr>
              <a:t>伊拉克對核查方案，漸見讓步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最高權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ff0066"/>
                </a:solidFill>
                <a:latin typeface="新細明體"/>
              </a:rPr>
              <a:t>聯合國並不批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88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9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0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91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5" name=""/>
          <p:cNvGraphicFramePr/>
          <p:nvPr/>
        </p:nvGraphicFramePr>
        <p:xfrm>
          <a:off x="900000" y="981000"/>
          <a:ext cx="7343640" cy="4741920"/>
        </p:xfrm>
        <a:graphic>
          <a:graphicData uri="http://schemas.openxmlformats.org/drawingml/2006/table">
            <a:tbl>
              <a:tblPr/>
              <a:tblGrid>
                <a:gridCol w="1942920"/>
                <a:gridCol w="5400720"/>
              </a:tblGrid>
              <a:tr h="186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人口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約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224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萬人，主要為阿拉伯人，佔整體人口約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75%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，而庫爾德人亦佔約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20%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官方語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阿拉伯語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宗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九成半人口信奉伊斯蘭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工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41%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從事農業；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17%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從事工業；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41%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從事服務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"/>
          <p:cNvGraphicFramePr/>
          <p:nvPr/>
        </p:nvGraphicFramePr>
        <p:xfrm>
          <a:off x="684360" y="549360"/>
          <a:ext cx="7991280" cy="5638680"/>
        </p:xfrm>
        <a:graphic>
          <a:graphicData uri="http://schemas.openxmlformats.org/drawingml/2006/table">
            <a:tbl>
              <a:tblPr/>
              <a:tblGrid>
                <a:gridCol w="1295280"/>
                <a:gridCol w="6696000"/>
              </a:tblGrid>
              <a:tr h="563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簡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伊拉克有著悠久的歷史。公元前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200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元建立了巴比倫王國，為四大文明古國之一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其後，先後被波斯人、阿拉伯帝國、蒙古及奧圖曼帝國入侵及統治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2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年成為英國「委任統治區」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38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年獲得完全獨立。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58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年成立伊拉克共和國。</a:t>
                      </a:r>
                      <a:br>
                        <a:rPr sz="3200"/>
                      </a:b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更多資料：伊拉克大事紀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7" name=""/>
          <p:cNvGraphicFramePr/>
          <p:nvPr/>
        </p:nvGraphicFramePr>
        <p:xfrm>
          <a:off x="539640" y="341280"/>
          <a:ext cx="8209080" cy="5932440"/>
        </p:xfrm>
        <a:graphic>
          <a:graphicData uri="http://schemas.openxmlformats.org/drawingml/2006/table">
            <a:tbl>
              <a:tblPr/>
              <a:tblGrid>
                <a:gridCol w="1295640"/>
                <a:gridCol w="6913440"/>
              </a:tblGrid>
              <a:tr h="59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政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伊拉克現時的執政黨為阿拉伯復興社會黨，黨總書記薩達姆‧侯賽因自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1979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年接管政權，現為伊拉克總統，兼任國家總理。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198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年，伊拉克與伊朗因邊界糾紛引發歷時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8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年的兩伊戰爭，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199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年又因侵略科威特，引發海灣戰爭，現仍為聯合國制裁。</a:t>
                      </a:r>
                      <a:br>
                        <a:rPr sz="3200"/>
                      </a:b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國內，伊拉克政府一直鎮壓庫爾德人的獨立運動，以及什葉派回教徒的反政府活動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8" name=""/>
          <p:cNvGraphicFramePr/>
          <p:nvPr/>
        </p:nvGraphicFramePr>
        <p:xfrm>
          <a:off x="395280" y="907920"/>
          <a:ext cx="8280360" cy="4861080"/>
        </p:xfrm>
        <a:graphic>
          <a:graphicData uri="http://schemas.openxmlformats.org/drawingml/2006/table">
            <a:tbl>
              <a:tblPr/>
              <a:tblGrid>
                <a:gridCol w="1806480"/>
                <a:gridCol w="6473880"/>
              </a:tblGrid>
              <a:tr h="486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資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伊拉克的石油及天然氣資源豐富。伊國石油藏量為全球第二大，僅次於沙特阿拉伯，而且大多是未經開發的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此外，伊拉克中部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－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幼發拉底河和底格里斯河流域地區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－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一直是國家主要的農業地區，大部分人口都聚居此地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9" name=""/>
          <p:cNvGraphicFramePr/>
          <p:nvPr/>
        </p:nvGraphicFramePr>
        <p:xfrm>
          <a:off x="395280" y="1197000"/>
          <a:ext cx="8280360" cy="2427120"/>
        </p:xfrm>
        <a:graphic>
          <a:graphicData uri="http://schemas.openxmlformats.org/drawingml/2006/table">
            <a:tbl>
              <a:tblPr/>
              <a:tblGrid>
                <a:gridCol w="1584360"/>
                <a:gridCol w="6696000"/>
              </a:tblGrid>
              <a:tr h="24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經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9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伊拉克入侵科威特後，伊拉克一直受到聯合國的經濟制裁，除了凍結了伊在海外的資產以外，伊拉克對外經貿亦受到限制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0" name=""/>
          <p:cNvSpPr/>
          <p:nvPr/>
        </p:nvSpPr>
        <p:spPr>
          <a:xfrm>
            <a:off x="1099440" y="4581360"/>
            <a:ext cx="726876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資料來源：世界知識年鑑，</a:t>
            </a: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2002</a:t>
            </a: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；中華人民共和國外交部網站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2002 </a:t>
            </a: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網址為：</a:t>
            </a: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http://www..fmprc.gov.cn/chn/6616.htm1)</a:t>
            </a:r>
            <a:r>
              <a:rPr b="0" lang="zh-TW" sz="24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800" spc="-1" strike="noStrike">
                <a:solidFill>
                  <a:srgbClr val="ff3399"/>
                </a:solidFill>
                <a:latin typeface="Arial Unicode MS"/>
                <a:ea typeface="Arial Unicode MS"/>
              </a:rPr>
              <a:t>美伊衝突事件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755640" y="1484280"/>
          <a:ext cx="7561440" cy="4951440"/>
        </p:xfrm>
        <a:graphic>
          <a:graphicData uri="http://schemas.openxmlformats.org/drawingml/2006/table">
            <a:tbl>
              <a:tblPr/>
              <a:tblGrid>
                <a:gridCol w="1368720"/>
                <a:gridCol w="6192720"/>
              </a:tblGrid>
              <a:tr h="67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重要事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9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伊拉克以科威特夥同阿聯酋超產石油，導致油價下跌，以及在有領土爭端的油田盜採石油為由，攻佔科威特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國際社會紛紛譴責伊拉克，要求伊立即撤軍。聯合國安理會通過決議，決定經濟制裁伊拉克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4:41:48Z</dcterms:created>
  <dc:creator>LING</dc:creator>
  <dc:description/>
  <dc:language>en-US</dc:language>
  <cp:lastModifiedBy>LING</cp:lastModifiedBy>
  <dcterms:modified xsi:type="dcterms:W3CDTF">2003-03-25T17:04:55Z</dcterms:modified>
  <cp:revision>12</cp:revision>
  <dc:subject/>
  <dc:title>正義戰爭的來源︰</dc:title>
</cp:coreProperties>
</file>