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E9DB-8B02-4641-8A60-AE43403CA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tentmaker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87BF-8EAF-4570-82BD-C67C66CE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4C7B-4C2C-4B26-AAEF-BAD3B615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12CB-CA35-4CDC-8D98-1CA71D46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07B3-490A-415A-9CA2-9D079022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9228-81EB-4C7D-8CC7-A6A72342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88A3-8BCB-4DC8-BE35-D241DAB3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8763-E2EE-462E-AF80-6F65625C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8C44-0DC3-43E7-9537-7E4ED1E3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5D7A-0E32-45C0-BB15-0DED2346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517D-4DE1-4447-81C0-12FD2FF7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E980-0BFF-452F-91D8-5FF62337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B22D-28E8-4D60-A7F8-443919B5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0517-4AC9-4E78-A34F-05AAF841C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mi.org/products/1040_g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81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entmakers are missions-committed Christians who work in secular jobs in order to reach another peopl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8098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y communicate the gospel by word and deed through excellence in work, caring relationships, and well chosen comments about God in the context of everyda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612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Global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6400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www.globalopp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33520"/>
            <a:ext cx="72388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Square721 BT"/>
              </a:rPr>
              <a:t>Tentmaker defin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fession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828800"/>
            <a:ext cx="44197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ive for excel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334120"/>
            <a:ext cx="777240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integrate work &amp; min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327560"/>
            <a:ext cx="57913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come involved at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833560"/>
            <a:ext cx="7772400" cy="106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network to be effective in your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marketable skill, preferably with some years of experi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ood relationship with God and – this is vital – a sustained praye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biblical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rowing ability to witness for Christ with ministry skills in evangelism, teaching and disciple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concern for people who don’t know Jesus and a sense of ca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rowing self-acceptance, love for others and a servant hear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304920"/>
            <a:ext cx="815328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 Qualities Do We Need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biblical perspective on issues relevant to work, ethics and social m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excitement about other cultures, or at least an awareness that we need to understand other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flexible and adaptable approach to others who are dif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Respect for other Christian workers with different roles and perceptions of minis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ability to set objectives realistically, while being open to God’s unexpected demands and pro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physical and psychological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The ability to cope with culture stress, family stress, isolation and lonelines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8080" y="304920"/>
            <a:ext cx="7696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Integrate work &amp; ministry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523880"/>
          <a:ext cx="7772400" cy="4667400"/>
        </p:xfrm>
        <a:graphic>
          <a:graphicData uri="http://schemas.openxmlformats.org/drawingml/2006/table">
            <a:tbl>
              <a:tblPr/>
              <a:tblGrid>
                <a:gridCol w="1344600"/>
                <a:gridCol w="2762280"/>
                <a:gridCol w="388800"/>
                <a:gridCol w="32767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2362320" y="2057400"/>
            <a:ext cx="236196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3276720"/>
            <a:ext cx="2361960" cy="3180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2895480" cy="500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09480" y="533520"/>
            <a:ext cx="8001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yths about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9051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an easy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348156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for people who only want to commit themselves shor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6924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only part-time missionary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4864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ny Christian working overseas is a                           tent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6972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 doesn’t require rigorous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220968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ing is only an alternative for those who have been called to the mission field but lack faith in God for economic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266688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ers are deceptive since they are ”missionaries in disguis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5146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ff"/>
                </a:solidFill>
                <a:latin typeface="Tahoma"/>
              </a:rPr>
              <a:t>It promotes individualism and disunity in the body of Christ, since they are able to move abroad without the blessing of their home assemb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is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imited religious freed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840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Relatively short st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29178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bility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700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Time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4008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55627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ack of accoun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20574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re entry visa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549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uilding natural bridges with nat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803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Greater acceptance by hos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2973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eing models for national belie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791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ble to help national ”church” with fin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50436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Job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461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838080"/>
            <a:ext cx="8153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tentmaker today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2362320"/>
            <a:ext cx="221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895480"/>
            <a:ext cx="4267080" cy="2775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milton tentmaker survey shows us tha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771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27680" y="1981080"/>
            <a:ext cx="301140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ck of understanding by parents and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lden opportunities for advancement on the present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arent needs in the home church that one could f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ancial problems Health impair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457200"/>
            <a:ext cx="8077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s Have Faced Before Go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ar of academi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ral lure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elings of in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ubt of God’s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ue concern about children’s welfare and sch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sunderstanding of mission boar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tionalized desire to be a homeland promoter sending others to th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5105520"/>
            <a:ext cx="8839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…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I looked and there before me was a great multitude that no one could count,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from every nation, tribe, people and languag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standing before the throne…. They were wearing white robes….” 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Revelation 7:9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57200"/>
            <a:ext cx="845820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Be strong and courageous. Do not be terrified; do not be discouraged, for the Lord your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d will be with you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herever you go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.”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Joshua 1:9 </a:t>
            </a: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981080"/>
            <a:ext cx="85341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Therefore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 and make disciple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of all 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400" spc="-1" strike="noStrike">
                <a:solidFill>
                  <a:srgbClr val="ffff00"/>
                </a:solidFill>
                <a:latin typeface="Tahoma"/>
              </a:rPr>
              <a:t>….”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8:19 </a:t>
            </a:r>
            <a:r>
              <a:rPr b="0" lang="en-CA" sz="14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124080"/>
            <a:ext cx="87631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And this gospel of the kingdom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ill b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preached in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he whole world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as a testimony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o all nation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8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and then the end will come.”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                                          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4:14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7680" y="1590840"/>
            <a:ext cx="146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4792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2.  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Main reason for going was to share the Gosp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5720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.   Led an evangelistic Bible study before go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468520"/>
            <a:ext cx="8382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.  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Believed God called them to be Tentmak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473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  Had actively shared their faith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47984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.   Had strong relationship with hom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486400"/>
            <a:ext cx="77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.   Recruited others to be Tentma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461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Four Religious Bloc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40320" y="4191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886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2819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2514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209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981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8288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19051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22860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286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2819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30481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72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3600" y="3657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3336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0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2880" y="2666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7800" y="243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3760" y="2209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9320" y="1965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7560" y="2575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264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2640" y="2270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61760" y="2651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9120" y="3108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04560" y="2346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51920" y="3032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9640" y="2727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3320" y="3336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51920" y="3565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0112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15000" y="762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6+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2362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/3 of the world’s peo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105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97 % of those who have not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429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82 % of the poorest of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7150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ss than 3% of  the miss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4612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D 2000 &amp; Operation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105160" cy="396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15000" y="1600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9 billion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495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mpant persecution of Christians ~ 200,000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419720"/>
            <a:ext cx="205740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2 / h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914400" y="1676520"/>
          <a:ext cx="6629400" cy="37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676520"/>
                    <a:ext cx="662940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9051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cal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53341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raditional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Frontier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209680"/>
            <a:ext cx="99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4114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19320" y="53352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urch spending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762120" y="609480"/>
            <a:ext cx="7696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o can be a tentmaker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1981080"/>
            <a:ext cx="297180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971800"/>
            <a:ext cx="365760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Professionals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&amp; lay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4495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Fami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209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i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505320"/>
            <a:ext cx="23623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Reti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486400"/>
            <a:ext cx="22096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Cou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1295280" y="21337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5638680" y="23623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5" action="ppaction://hlinksldjump"/>
          </p:cNvPr>
          <p:cNvSpPr/>
          <p:nvPr/>
        </p:nvSpPr>
        <p:spPr>
          <a:xfrm>
            <a:off x="5257800" y="36576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6" action="ppaction://hlinksldjump"/>
          </p:cNvPr>
          <p:cNvSpPr/>
          <p:nvPr/>
        </p:nvSpPr>
        <p:spPr>
          <a:xfrm>
            <a:off x="457200" y="31240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7" action="ppaction://hlinksldjump"/>
          </p:cNvPr>
          <p:cNvSpPr/>
          <p:nvPr/>
        </p:nvSpPr>
        <p:spPr>
          <a:xfrm>
            <a:off x="1600200" y="45720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8" action="ppaction://hlinksldjump"/>
          </p:cNvPr>
          <p:cNvSpPr/>
          <p:nvPr/>
        </p:nvSpPr>
        <p:spPr>
          <a:xfrm>
            <a:off x="3276720" y="56386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iritu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828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evelop home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666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he B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5812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o pr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evange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5410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disciple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14:45:44Z</dcterms:created>
  <dc:creator>Chan</dc:creator>
  <dc:description/>
  <dc:language>en-US</dc:language>
  <cp:lastModifiedBy>Chan</cp:lastModifiedBy>
  <dcterms:modified xsi:type="dcterms:W3CDTF">2003-06-28T17:27:21Z</dcterms:modified>
  <cp:revision>10</cp:revision>
  <dc:subject/>
  <dc:title>PowerPoint Presentation</dc:title>
</cp:coreProperties>
</file>