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3.wmf" ContentType="image/x-wmf"/>
  <Override PartName="/ppt/media/image2.png" ContentType="image/png"/>
  <Override PartName="/ppt/media/image4.jpeg" ContentType="image/jpeg"/>
  <Override PartName="/ppt/media/image10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C5752-5BEB-4E96-ADC2-586B7195C6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06640" y="666720"/>
            <a:ext cx="4644720" cy="348444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05040" y="4373640"/>
            <a:ext cx="5047920" cy="407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days 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06640" y="666720"/>
            <a:ext cx="4644720" cy="348444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05040" y="4373640"/>
            <a:ext cx="5047920" cy="407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days tentmaker spea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21612-D1D6-405B-A1A2-889EC37CB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921C4-1B55-4191-84CE-CA63638A6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B6099-B987-4158-829E-71FD753BB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F08D0-8902-4A98-88A4-A57DF096A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0A7A2-0046-43ED-B9CD-3AC51CBD0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44A3D-E1D2-4409-A58D-154D471E4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EB4F0-D7FB-4789-9B1B-E8861FB10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AC40E-191C-4FFB-8C96-67DD4E401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5283E-82FA-42EE-94EE-766C23294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5423A-17DD-4F3E-9087-C953CC3FF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34D2A-1CBF-456F-A768-5305DB650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CCF3F-7A17-49AB-A42C-547FE0141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0892F-5A6E-407E-BDD1-E7CFFEE170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gmi.org/products/1040_g.htm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6.wmf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" Target="slide2.xml"/><Relationship Id="rId6" Type="http://schemas.openxmlformats.org/officeDocument/2006/relationships/slide" Target="slide2.xml"/><Relationship Id="rId7" Type="http://schemas.openxmlformats.org/officeDocument/2006/relationships/slide" Target="slide2.xml"/><Relationship Id="rId8" Type="http://schemas.openxmlformats.org/officeDocument/2006/relationships/slide" Target="slide2.xml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85800" y="1981080"/>
            <a:ext cx="8153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Tentmakers are missions-committed Christians who work in secular jobs in order to reach another people gro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809880"/>
            <a:ext cx="77724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They communicate the gospel by word and deed through excellence in work, caring relationships, and well chosen comments about God in the context of everyday lif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6461280"/>
            <a:ext cx="4038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Global Opportun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172200" y="640080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Tahoma"/>
              </a:rPr>
              <a:t>www.globalopps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533520"/>
            <a:ext cx="7238880" cy="7617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c00"/>
                </a:solidFill>
                <a:latin typeface="Square721 BT"/>
              </a:rPr>
              <a:t>Tentmaker definitio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609480" y="533520"/>
            <a:ext cx="80010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Professional preparation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2" name=""/>
          <p:cNvSpPr/>
          <p:nvPr/>
        </p:nvSpPr>
        <p:spPr>
          <a:xfrm>
            <a:off x="838080" y="1828800"/>
            <a:ext cx="4419720" cy="5814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trive for excell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838080" y="5334120"/>
            <a:ext cx="7772400" cy="5814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Learn to integrate work &amp; minis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838080" y="4327560"/>
            <a:ext cx="5791320" cy="5814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Become involved at ho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838080" y="2833560"/>
            <a:ext cx="7772400" cy="10688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Learn to network to be effective in your 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6400800"/>
            <a:ext cx="63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Working your way”,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Jonathan Lew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A marketable skill, preferably with some years of experienc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A good relationship with God and – this is vital – a sustained prayer lif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Good biblical knowled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A growing ability to witness for Christ with ministry skills in evangelism, teaching and discipleshi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A concern for people who don’t know Jesus and a sense of call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Growing self-acceptance, love for others and a servant heart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533520" y="304920"/>
            <a:ext cx="8153280" cy="671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What Other Qualities Do We Need?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304560"/>
            <a:ext cx="77724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A biblical perspective on issues relevant to work, ethics and social matt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An excitement about other cultures, or at least an awareness that we need to understand other cultur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A flexible and adaptable approach to others who are diffe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Respect for other Christian workers with different roles and perceptions of minist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An ability to set objectives realistically, while being open to God’s unexpected demands and provis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Good physical and psychological healt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The ability to cope with culture stress, family stress, isolation and loneliness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838080" y="304920"/>
            <a:ext cx="769644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ahoma"/>
              </a:rPr>
              <a:t>Integrate work &amp; ministry</a:t>
            </a:r>
            <a:endParaRPr b="1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ahoma"/>
              <a:ea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762120" y="1523880"/>
          <a:ext cx="7772400" cy="4667400"/>
        </p:xfrm>
        <a:graphic>
          <a:graphicData uri="http://schemas.openxmlformats.org/drawingml/2006/table">
            <a:tbl>
              <a:tblPr/>
              <a:tblGrid>
                <a:gridCol w="1344600"/>
                <a:gridCol w="2762280"/>
                <a:gridCol w="388800"/>
                <a:gridCol w="3276720"/>
              </a:tblGrid>
              <a:tr h="155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 p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 p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1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 p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o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 a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2362320" y="2057400"/>
            <a:ext cx="2361960" cy="70344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5e5e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Minist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362320" y="3276720"/>
            <a:ext cx="2361960" cy="318024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5e5e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ahoma"/>
              </a:rPr>
              <a:t>Work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486400" y="2057400"/>
            <a:ext cx="2895480" cy="500004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5e5e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Minist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&amp;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ahoma"/>
              </a:rPr>
              <a:t>Work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62320" y="6338880"/>
            <a:ext cx="281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Sepa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791320" y="6338880"/>
            <a:ext cx="281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Integ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04920" y="64008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teg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609480" y="533520"/>
            <a:ext cx="800100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Myths about tentmaking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1" name=""/>
          <p:cNvSpPr/>
          <p:nvPr/>
        </p:nvSpPr>
        <p:spPr>
          <a:xfrm>
            <a:off x="990720" y="1905120"/>
            <a:ext cx="426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It’s an easy o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90720" y="3481560"/>
            <a:ext cx="7010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It’s for people who only want to commit themselves short te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90720" y="2692440"/>
            <a:ext cx="73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It’s only part-time missionary 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990720" y="5486400"/>
            <a:ext cx="7467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Any Christian working overseas is a                           tentmak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4697280"/>
            <a:ext cx="739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It doesn’t require rigorous trai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62120" y="533520"/>
            <a:ext cx="777240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Objections to tentmaking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7" name=""/>
          <p:cNvSpPr/>
          <p:nvPr/>
        </p:nvSpPr>
        <p:spPr>
          <a:xfrm>
            <a:off x="914400" y="2209680"/>
            <a:ext cx="78487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000" spc="-1" strike="noStrike">
                <a:solidFill>
                  <a:srgbClr val="ffffff"/>
                </a:solidFill>
                <a:latin typeface="Tahoma"/>
              </a:rPr>
              <a:t>Tentmaking is only an alternative for those who have been called to the mission field but lack faith in God for economic suppor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6400800"/>
            <a:ext cx="571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Working abroad, </a:t>
            </a: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Philip Nun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762120" y="533520"/>
            <a:ext cx="777240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Objections to tentmaking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6400800"/>
            <a:ext cx="571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Working abroad, </a:t>
            </a: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Philip Nun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838080" y="2666880"/>
            <a:ext cx="7848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000" spc="-1" strike="noStrike">
                <a:solidFill>
                  <a:srgbClr val="ffffff"/>
                </a:solidFill>
                <a:latin typeface="Tahoma"/>
              </a:rPr>
              <a:t>Tentmakers are deceptive since they are ”missionaries in disguise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762120" y="533520"/>
            <a:ext cx="777240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Objections to tentmaking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3" name=""/>
          <p:cNvSpPr/>
          <p:nvPr/>
        </p:nvSpPr>
        <p:spPr>
          <a:xfrm>
            <a:off x="838080" y="2514600"/>
            <a:ext cx="7848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ffffff"/>
                </a:solidFill>
                <a:latin typeface="Tahoma"/>
              </a:rPr>
              <a:t>It promotes individualism and disunity in the body of Christ, since they are able to move abroad without the blessing of their home assembl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6400800"/>
            <a:ext cx="571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Working abroad, </a:t>
            </a: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Philip Nun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762120" y="533520"/>
            <a:ext cx="761976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Disadvantages to tentmaking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6" name=""/>
          <p:cNvSpPr/>
          <p:nvPr/>
        </p:nvSpPr>
        <p:spPr>
          <a:xfrm>
            <a:off x="1981080" y="2057400"/>
            <a:ext cx="54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Limited religious freedo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981080" y="384012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Relatively short sta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981080" y="291780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Mobility restri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981080" y="470052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Time constrai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0" y="6400800"/>
            <a:ext cx="472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Working abroad, </a:t>
            </a: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Philip Nun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981080" y="5562720"/>
            <a:ext cx="449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Lack of account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762120" y="533520"/>
            <a:ext cx="761976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Advantages to tentmaking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3" name=""/>
          <p:cNvSpPr/>
          <p:nvPr/>
        </p:nvSpPr>
        <p:spPr>
          <a:xfrm>
            <a:off x="533520" y="2057400"/>
            <a:ext cx="693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More entry visas avail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33520" y="3549600"/>
            <a:ext cx="746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Building natural bridges with nation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33520" y="2803680"/>
            <a:ext cx="73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Greater acceptance by host count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33520" y="4297320"/>
            <a:ext cx="716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Being models for national believ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33520" y="5791320"/>
            <a:ext cx="861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Able to help national ”church” with fina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33520" y="5043600"/>
            <a:ext cx="32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Job satisfa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646128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Working abroad, </a:t>
            </a: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Philip Nun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0" y="838080"/>
            <a:ext cx="815328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The tentmaker today</a:t>
            </a:r>
            <a:endParaRPr b="0" lang="en-US" sz="2400" spc="1" strike="noStrike">
              <a:ln cap="sq"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54" name=""/>
          <p:cNvSpPr/>
          <p:nvPr/>
        </p:nvSpPr>
        <p:spPr>
          <a:xfrm>
            <a:off x="1523880" y="2362320"/>
            <a:ext cx="2210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85800" y="2895480"/>
            <a:ext cx="4267080" cy="27752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Hamilton tentmaker survey shows us that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6477120"/>
            <a:ext cx="541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Tentmakers speak, </a:t>
            </a: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Don Hamilt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5827680" y="1981080"/>
            <a:ext cx="3011400" cy="472464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533520" y="1980720"/>
            <a:ext cx="80769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Lack of understanding by parents and frie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Golden opportunities for advancement on the present 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pparent needs in the home church that one could fi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nancial problems Health impair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609480" y="457200"/>
            <a:ext cx="80773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What Others Have Faced Before Going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457200" y="609120"/>
            <a:ext cx="83059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ear of academic requir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General lure of the wor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eelings of inadequa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oubt of God’s wi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Undue concern about children’s welfare and school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isunderstanding of mission board requir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ationalized desire to be a homeland promoter sending others to the fie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304920" y="5105520"/>
            <a:ext cx="883908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“…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I looked and there before me was a great multitude that no one could count, </a:t>
            </a:r>
            <a:r>
              <a:rPr b="1" lang="en-CA" sz="2800" spc="-1" strike="noStrike">
                <a:solidFill>
                  <a:srgbClr val="ffff00"/>
                </a:solidFill>
                <a:latin typeface="Tahoma"/>
              </a:rPr>
              <a:t>from every nation, tribe, people and language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, standing before the throne…. They were wearing white robes….” </a:t>
            </a:r>
            <a:r>
              <a:rPr b="0" lang="en-CA" sz="2400" spc="-1" strike="noStrike">
                <a:solidFill>
                  <a:srgbClr val="fffcfa"/>
                </a:solidFill>
                <a:latin typeface="Tahoma"/>
              </a:rPr>
              <a:t>(Revelation 7:9 </a:t>
            </a:r>
            <a:r>
              <a:rPr b="0" lang="en-CA" sz="1600" spc="-1" strike="noStrike">
                <a:solidFill>
                  <a:srgbClr val="fffcfa"/>
                </a:solidFill>
                <a:latin typeface="Tahoma"/>
              </a:rPr>
              <a:t>NIV</a:t>
            </a:r>
            <a:r>
              <a:rPr b="0" lang="en-CA" sz="2400" spc="-1" strike="noStrike">
                <a:solidFill>
                  <a:srgbClr val="fffcfa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457200"/>
            <a:ext cx="8458200" cy="13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“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Be strong and courageous. Do not be terrified; do not be discouraged, for the Lord your </a:t>
            </a:r>
            <a:r>
              <a:rPr b="1" lang="en-CA" sz="2800" spc="-1" strike="noStrike">
                <a:solidFill>
                  <a:srgbClr val="ffff00"/>
                </a:solidFill>
                <a:latin typeface="Tahoma"/>
              </a:rPr>
              <a:t>God will be with you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en-CA" sz="2800" spc="-1" strike="noStrike">
                <a:solidFill>
                  <a:srgbClr val="ffff00"/>
                </a:solidFill>
                <a:latin typeface="Tahoma"/>
              </a:rPr>
              <a:t>wherever you go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.” 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(Joshua 1:9 </a:t>
            </a:r>
            <a:r>
              <a:rPr b="0" lang="en-CA" sz="1600" spc="-1" strike="noStrike">
                <a:solidFill>
                  <a:srgbClr val="ffffff"/>
                </a:solidFill>
                <a:latin typeface="Tahoma"/>
              </a:rPr>
              <a:t>NIV</a:t>
            </a: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04920" y="1981080"/>
            <a:ext cx="8534160" cy="8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“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Therefore </a:t>
            </a:r>
            <a:r>
              <a:rPr b="1" lang="en-CA" sz="2800" spc="-1" strike="noStrike">
                <a:solidFill>
                  <a:srgbClr val="ffff00"/>
                </a:solidFill>
                <a:latin typeface="Tahoma"/>
              </a:rPr>
              <a:t>go and make disciples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 of all nat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cc99"/>
                </a:solidFill>
                <a:latin typeface="Tahoma"/>
              </a:rPr>
              <a:t>[Greek for peoples]</a:t>
            </a:r>
            <a:r>
              <a:rPr b="0" lang="en-CA" sz="2400" spc="-1" strike="noStrike">
                <a:solidFill>
                  <a:srgbClr val="ffff00"/>
                </a:solidFill>
                <a:latin typeface="Tahoma"/>
              </a:rPr>
              <a:t>….”</a:t>
            </a:r>
            <a:r>
              <a:rPr b="0" lang="en-CA" sz="2400" spc="-1" strike="noStrike">
                <a:solidFill>
                  <a:srgbClr val="fffcfa"/>
                </a:solidFill>
                <a:latin typeface="Tahoma"/>
              </a:rPr>
              <a:t>(Matthew 28:19 </a:t>
            </a:r>
            <a:r>
              <a:rPr b="0" lang="en-CA" sz="1400" spc="-1" strike="noStrike">
                <a:solidFill>
                  <a:srgbClr val="fffcfa"/>
                </a:solidFill>
                <a:latin typeface="Tahoma"/>
              </a:rPr>
              <a:t>NIV</a:t>
            </a:r>
            <a:r>
              <a:rPr b="0" lang="en-CA" sz="2400" spc="-1" strike="noStrike">
                <a:solidFill>
                  <a:srgbClr val="fffcfa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80880" y="3124080"/>
            <a:ext cx="8763120" cy="21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“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And this gospel of the kingdom </a:t>
            </a:r>
            <a:r>
              <a:rPr b="1" lang="en-CA" sz="2800" spc="-1" strike="noStrike">
                <a:solidFill>
                  <a:srgbClr val="ffff00"/>
                </a:solidFill>
                <a:latin typeface="Tahoma"/>
              </a:rPr>
              <a:t>will be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 preached in </a:t>
            </a:r>
            <a:r>
              <a:rPr b="1" lang="en-CA" sz="2800" spc="-1" strike="noStrike">
                <a:solidFill>
                  <a:srgbClr val="ffff00"/>
                </a:solidFill>
                <a:latin typeface="Tahoma"/>
              </a:rPr>
              <a:t>the whole world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 as a testimony </a:t>
            </a:r>
            <a:r>
              <a:rPr b="1" lang="en-CA" sz="2800" spc="-1" strike="noStrike">
                <a:solidFill>
                  <a:srgbClr val="ffff00"/>
                </a:solidFill>
                <a:latin typeface="Tahoma"/>
              </a:rPr>
              <a:t>to all nations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CA" sz="2400" spc="-1" strike="noStrike">
                <a:solidFill>
                  <a:srgbClr val="ffcc99"/>
                </a:solidFill>
                <a:latin typeface="Tahoma"/>
              </a:rPr>
              <a:t>[Greek for peoples]</a:t>
            </a:r>
            <a:r>
              <a:rPr b="0" lang="en-CA" sz="2800" spc="-1" strike="noStrike">
                <a:solidFill>
                  <a:srgbClr val="ffcc99"/>
                </a:solidFill>
                <a:latin typeface="Tahoma"/>
              </a:rPr>
              <a:t> 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, and then the end will come.”</a:t>
            </a:r>
            <a:r>
              <a:rPr b="0" lang="en-CA" sz="2800" spc="-1" strike="noStrike">
                <a:solidFill>
                  <a:srgbClr val="fffcfa"/>
                </a:solidFill>
                <a:latin typeface="Tahoma"/>
              </a:rPr>
              <a:t>                                          </a:t>
            </a:r>
            <a:r>
              <a:rPr b="0" lang="en-CA" sz="2800" spc="-1" strike="noStrike">
                <a:solidFill>
                  <a:srgbClr val="fffcfa"/>
                </a:solidFill>
                <a:latin typeface="Tahoma"/>
              </a:rPr>
              <a:t>	</a:t>
            </a:r>
            <a:r>
              <a:rPr b="0" lang="en-CA" sz="2800" spc="-1" strike="noStrike">
                <a:solidFill>
                  <a:srgbClr val="fffcfa"/>
                </a:solidFill>
                <a:latin typeface="Tahoma"/>
              </a:rPr>
              <a:t>	</a:t>
            </a:r>
            <a:r>
              <a:rPr b="0" lang="en-CA" sz="2800" spc="-1" strike="noStrike">
                <a:solidFill>
                  <a:srgbClr val="fffcfa"/>
                </a:solidFill>
                <a:latin typeface="Tahoma"/>
              </a:rPr>
              <a:t>	</a:t>
            </a:r>
            <a:r>
              <a:rPr b="0" lang="en-CA" sz="2800" spc="-1" strike="noStrike">
                <a:solidFill>
                  <a:srgbClr val="fffcfa"/>
                </a:solidFill>
                <a:latin typeface="Tahoma"/>
              </a:rPr>
              <a:t>	</a:t>
            </a:r>
            <a:r>
              <a:rPr b="0" lang="en-CA" sz="2800" spc="-1" strike="noStrike">
                <a:solidFill>
                  <a:srgbClr val="fffcfa"/>
                </a:solidFill>
                <a:latin typeface="Tahoma"/>
              </a:rPr>
              <a:t>	</a:t>
            </a:r>
            <a:r>
              <a:rPr b="0" lang="en-CA" sz="2400" spc="-1" strike="noStrike">
                <a:solidFill>
                  <a:srgbClr val="fffcfa"/>
                </a:solidFill>
                <a:latin typeface="Tahoma"/>
              </a:rPr>
              <a:t>(Matthew 24:14 </a:t>
            </a:r>
            <a:r>
              <a:rPr b="0" lang="en-CA" sz="1600" spc="-1" strike="noStrike">
                <a:solidFill>
                  <a:srgbClr val="fffcfa"/>
                </a:solidFill>
                <a:latin typeface="Tahoma"/>
              </a:rPr>
              <a:t>NIV</a:t>
            </a:r>
            <a:r>
              <a:rPr b="0" lang="en-CA" sz="2400" spc="-1" strike="noStrike">
                <a:solidFill>
                  <a:srgbClr val="fffcfa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517680" y="1590840"/>
            <a:ext cx="1463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1447920"/>
            <a:ext cx="8686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2.   </a:t>
            </a: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Main reason for going was to share the Gosp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457200"/>
            <a:ext cx="8382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1.   Led an evangelistic Bible study before go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2468520"/>
            <a:ext cx="83822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3.   </a:t>
            </a: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Believed God called them to be Tentmaker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347328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4.   Had actively shared their faith at ho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4479840"/>
            <a:ext cx="838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5.   Had strong relationship with home chur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5486400"/>
            <a:ext cx="77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6.   Recruited others to be Tentmak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04920" y="6461280"/>
            <a:ext cx="480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Tentmakers speak, </a:t>
            </a: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Don Hamilt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Four Religious Block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7240320" y="4191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629400" y="3886200"/>
            <a:ext cx="30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943600" y="2819520"/>
            <a:ext cx="2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876920" y="2514600"/>
            <a:ext cx="304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724280" y="2209680"/>
            <a:ext cx="2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876920" y="1981080"/>
            <a:ext cx="2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952880" y="1828800"/>
            <a:ext cx="381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95680" y="1828800"/>
            <a:ext cx="30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67080" y="1905120"/>
            <a:ext cx="2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114800" y="228600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581280" y="2286000"/>
            <a:ext cx="381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657600" y="2743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191120" y="281952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267080" y="3048120"/>
            <a:ext cx="381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887280" y="327672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963600" y="365760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33360" y="318456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430080" y="327672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2880" y="266688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77800" y="243828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353760" y="220968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9320" y="196524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347560" y="257508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042640" y="318456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042640" y="227016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661760" y="265104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509120" y="310824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204560" y="234648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051920" y="303228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99640" y="272736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823320" y="333684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051920" y="356544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01122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5715000" y="7621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56+ count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715000" y="2362320"/>
            <a:ext cx="3200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2/3 of the world’s peo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09480" y="510552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97 % of those who have not he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715000" y="3429000"/>
            <a:ext cx="3200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82 % of the poorest of the po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09480" y="5715000"/>
            <a:ext cx="563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less than 3% of  the missiona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6461280"/>
            <a:ext cx="518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AD 2000 &amp; Operation Wor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5105160" cy="39607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5715000" y="160020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3.9 billion 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09480" y="449568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rampant persecution of Christians ~ 200,000/y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553080" y="4419720"/>
            <a:ext cx="2057400" cy="6426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22 / hr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0" name=""/>
          <p:cNvGraphicFramePr/>
          <p:nvPr/>
        </p:nvGraphicFramePr>
        <p:xfrm>
          <a:off x="1523880" y="1390680"/>
          <a:ext cx="6097680" cy="407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390680"/>
                    <a:ext cx="6097680" cy="40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2" name=""/>
          <p:cNvGraphicFramePr/>
          <p:nvPr/>
        </p:nvGraphicFramePr>
        <p:xfrm>
          <a:off x="914400" y="1676520"/>
          <a:ext cx="6629400" cy="37893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14400" y="1676520"/>
                    <a:ext cx="6629400" cy="378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1905120" y="5334120"/>
            <a:ext cx="129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Local chu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429000" y="533412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Traditional mis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410080" y="533412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Frontier mis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905120" y="2209680"/>
            <a:ext cx="990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95%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86200" y="41148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4.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715000" y="41148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0.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219320" y="533520"/>
            <a:ext cx="66294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ahoma"/>
              </a:rPr>
              <a:t>Church spending</a:t>
            </a:r>
            <a:endParaRPr b="1" lang="en-US" sz="24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ahoma"/>
              <a:ea typeface="Tahoma"/>
            </a:endParaRPr>
          </a:p>
        </p:txBody>
      </p:sp>
    </p:spTree>
  </p:cSld>
  <p:transition spd="med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762120" y="609480"/>
            <a:ext cx="769608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Who can be a tentmaker?</a:t>
            </a:r>
            <a:endParaRPr b="0" lang="en-US" sz="32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2" name=""/>
          <p:cNvSpPr/>
          <p:nvPr/>
        </p:nvSpPr>
        <p:spPr>
          <a:xfrm>
            <a:off x="1676520" y="1981080"/>
            <a:ext cx="2971800" cy="642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fi-FI" sz="3600" spc="-1" strike="noStrike">
                <a:solidFill>
                  <a:srgbClr val="ffff00"/>
                </a:solidFill>
                <a:latin typeface="Tahoma"/>
              </a:rPr>
              <a:t>Stud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990720" y="2971800"/>
            <a:ext cx="3657600" cy="11912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ffff00"/>
                </a:solidFill>
                <a:latin typeface="Tahoma"/>
              </a:rPr>
              <a:t>Professionals </a:t>
            </a: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&amp; laym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09680" y="4495680"/>
            <a:ext cx="2210040" cy="642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ffff00"/>
                </a:solidFill>
                <a:latin typeface="Tahoma"/>
              </a:rPr>
              <a:t>Famil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324480" y="2209680"/>
            <a:ext cx="2210040" cy="642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ffff00"/>
                </a:solidFill>
                <a:latin typeface="Tahoma"/>
              </a:rPr>
              <a:t>Sing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867280" y="3505320"/>
            <a:ext cx="2362320" cy="642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ffff00"/>
                </a:solidFill>
                <a:latin typeface="Tahoma"/>
              </a:rPr>
              <a:t>Retire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962520" y="5486400"/>
            <a:ext cx="2209680" cy="642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ffff00"/>
                </a:solidFill>
                <a:latin typeface="Tahoma"/>
              </a:rPr>
              <a:t>Coup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>
            <a:hlinkClick r:id="rId3" action="ppaction://hlinksldjump"/>
          </p:cNvPr>
          <p:cNvSpPr/>
          <p:nvPr/>
        </p:nvSpPr>
        <p:spPr>
          <a:xfrm>
            <a:off x="1295280" y="2133720"/>
            <a:ext cx="400320" cy="39996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7575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>
            <a:hlinkClick r:id="rId4" action="ppaction://hlinksldjump"/>
          </p:cNvPr>
          <p:cNvSpPr/>
          <p:nvPr/>
        </p:nvSpPr>
        <p:spPr>
          <a:xfrm>
            <a:off x="5638680" y="2362320"/>
            <a:ext cx="400320" cy="39996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7575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>
            <a:hlinkClick r:id="rId5" action="ppaction://hlinksldjump"/>
          </p:cNvPr>
          <p:cNvSpPr/>
          <p:nvPr/>
        </p:nvSpPr>
        <p:spPr>
          <a:xfrm>
            <a:off x="5257800" y="3657600"/>
            <a:ext cx="399960" cy="39996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7575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>
            <a:hlinkClick r:id="rId6" action="ppaction://hlinksldjump"/>
          </p:cNvPr>
          <p:cNvSpPr/>
          <p:nvPr/>
        </p:nvSpPr>
        <p:spPr>
          <a:xfrm>
            <a:off x="457200" y="3124080"/>
            <a:ext cx="399960" cy="40032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7575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>
            <a:hlinkClick r:id="rId7" action="ppaction://hlinksldjump"/>
          </p:cNvPr>
          <p:cNvSpPr/>
          <p:nvPr/>
        </p:nvSpPr>
        <p:spPr>
          <a:xfrm>
            <a:off x="1600200" y="4572000"/>
            <a:ext cx="399960" cy="39996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7575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>
            <a:hlinkClick r:id="rId8" action="ppaction://hlinksldjump"/>
          </p:cNvPr>
          <p:cNvSpPr/>
          <p:nvPr/>
        </p:nvSpPr>
        <p:spPr>
          <a:xfrm>
            <a:off x="3276720" y="5638680"/>
            <a:ext cx="399960" cy="40032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7575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09480" y="533520"/>
            <a:ext cx="80010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Spiritual preparation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5" name=""/>
          <p:cNvSpPr/>
          <p:nvPr/>
        </p:nvSpPr>
        <p:spPr>
          <a:xfrm>
            <a:off x="304920" y="1828800"/>
            <a:ext cx="678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Develop home suppor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219320" y="2666880"/>
            <a:ext cx="380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Learn the Bib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438280" y="3581280"/>
            <a:ext cx="403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Learn to pra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429000" y="44197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Learn evangelis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343400" y="541008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Learn disciple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6400800"/>
            <a:ext cx="63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Working your way”,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Jonathan Lew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8T14:45:44Z</dcterms:created>
  <dc:creator>Chan</dc:creator>
  <dc:description/>
  <dc:language>en-US</dc:language>
  <cp:lastModifiedBy>Chan</cp:lastModifiedBy>
  <dcterms:modified xsi:type="dcterms:W3CDTF">2003-06-28T17:27:21Z</dcterms:modified>
  <cp:revision>10</cp:revision>
  <dc:subject/>
  <dc:title>PowerPoint Presentation</dc:title>
</cp:coreProperties>
</file>