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2D68C-E260-4B53-9833-4252B24DA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524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1F31D-62F0-4B86-8C25-DE9C2D2AA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524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2351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25BA6-9ED7-46E5-9837-3A23D69CC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80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5080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52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80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5080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073B5-0093-40F8-A90F-43E2E117A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96203-79F8-4F22-A421-DEAE74633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00D4B-1A3D-4EA6-88F8-41F252A1E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6B20A-E580-4B2F-B1BF-2462231B2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0AD13-E836-453F-ABEF-B259D2EE6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9E796-79D0-447F-870D-3D90A0260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125244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F829A-E00E-4206-AB00-4543D75AC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2524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0B7FB-F2E9-4C79-A445-AC39FEDA3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9793A-4B07-49B2-AA22-027EFD469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2351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17349-C6FC-4F44-AC85-9D9B70B34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2524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84AF9-BA32-4F64-BB6F-43CFF7308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12524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FBABF-D3B4-428D-B63C-AABA72410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12524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52351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3E5DD-6136-4D90-AE69-4C16F27E6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880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5080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1252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880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5080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EE75F-9F2B-4811-9C1A-0E33BA880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1F4D5-E90C-4EE2-9190-1CA3C5989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85B7F-BAB9-456B-8FF4-97851C75E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7AA3E-87EE-4B0D-93FB-E924773C2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25244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F7945-3512-452C-8232-A6479B1F9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524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22C87-D150-45E7-8CFE-C2D67DC75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2351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5F4E6-46BA-49B3-8B9B-D0CE41ACB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524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55D12-9823-43B9-BA47-C9319B728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620280" y="-418320"/>
            <a:ext cx="2669400" cy="7673760"/>
            <a:chOff x="-620280" y="-418320"/>
            <a:chExt cx="2669400" cy="7673760"/>
          </a:xfrm>
        </p:grpSpPr>
        <p:sp>
          <p:nvSpPr>
            <p:cNvPr id="1" name=""/>
            <p:cNvSpPr/>
            <p:nvPr/>
          </p:nvSpPr>
          <p:spPr>
            <a:xfrm rot="2700000">
              <a:off x="-320760" y="-111960"/>
              <a:ext cx="144432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 rot="2700000">
              <a:off x="-321120" y="-119160"/>
              <a:ext cx="1442880" cy="1442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929" y="463"/>
                  </a:moveTo>
                  <a:arcTo wR="10800" hR="10800" stAng="-4389371" swAng="34554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3929" y="463"/>
                  </a:moveTo>
                  <a:arcTo wR="10800" hR="10800" stAng="-4389371" swAng="3455496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2700000">
              <a:off x="-312480" y="-111600"/>
              <a:ext cx="144360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950" y="1307"/>
                  </a:moveTo>
                  <a:arcTo wR="10800" hR="10800" stAng="-3691210" swAng="2151388"/>
                  <a:lnTo>
                    <a:pt x="10800" y="10800"/>
                  </a:lnTo>
                  <a:close/>
                </a:path>
                <a:path fill="none" w="21600" h="21600">
                  <a:moveTo>
                    <a:pt x="15950" y="1307"/>
                  </a:moveTo>
                  <a:arcTo wR="10800" hR="10800" stAng="-3691210" swAng="2151388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700000">
              <a:off x="-308520" y="-113760"/>
              <a:ext cx="1444680" cy="1443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494" y="2325"/>
                  </a:moveTo>
                  <a:arcTo wR="10800" hR="10800" stAng="-3101654" swAng="847077"/>
                  <a:lnTo>
                    <a:pt x="10800" y="10800"/>
                  </a:lnTo>
                  <a:close/>
                </a:path>
                <a:path fill="none" w="21600" h="21600">
                  <a:moveTo>
                    <a:pt x="17494" y="2325"/>
                  </a:moveTo>
                  <a:arcTo wR="10800" hR="10800" stAng="-3101654" swAng="847077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 rot="2700000">
              <a:off x="52920" y="258120"/>
              <a:ext cx="682200" cy="68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38401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2700000">
              <a:off x="-320040" y="1129680"/>
              <a:ext cx="144360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 rot="2700000">
              <a:off x="-321480" y="1121760"/>
              <a:ext cx="1443600" cy="1442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929" y="463"/>
                  </a:moveTo>
                  <a:arcTo wR="10800" hR="10800" stAng="-4389371" swAng="34554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3929" y="463"/>
                  </a:moveTo>
                  <a:arcTo wR="10800" hR="10800" stAng="-4389371" swAng="3455496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2700000">
              <a:off x="-312480" y="1129320"/>
              <a:ext cx="144360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950" y="1307"/>
                  </a:moveTo>
                  <a:arcTo wR="10800" hR="10800" stAng="-3691210" swAng="2151388"/>
                  <a:lnTo>
                    <a:pt x="10800" y="10800"/>
                  </a:lnTo>
                  <a:close/>
                </a:path>
                <a:path fill="none" w="21600" h="21600">
                  <a:moveTo>
                    <a:pt x="15950" y="1307"/>
                  </a:moveTo>
                  <a:arcTo wR="10800" hR="10800" stAng="-3691210" swAng="2151388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2700000">
              <a:off x="-308520" y="1127520"/>
              <a:ext cx="1445760" cy="1443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494" y="2325"/>
                  </a:moveTo>
                  <a:arcTo wR="10800" hR="10800" stAng="-3101654" swAng="847077"/>
                  <a:lnTo>
                    <a:pt x="10800" y="10800"/>
                  </a:lnTo>
                  <a:close/>
                </a:path>
                <a:path fill="none" w="21600" h="21600">
                  <a:moveTo>
                    <a:pt x="17494" y="2325"/>
                  </a:moveTo>
                  <a:arcTo wR="10800" hR="10800" stAng="-3101654" swAng="847077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rot="2700000">
              <a:off x="52920" y="1504440"/>
              <a:ext cx="682200" cy="68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38401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rot="2700000">
              <a:off x="-320040" y="2380680"/>
              <a:ext cx="144360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 rot="2700000">
              <a:off x="-320040" y="3636360"/>
              <a:ext cx="144360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rot="2700000">
              <a:off x="-321480" y="3628440"/>
              <a:ext cx="1443600" cy="1442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929" y="463"/>
                  </a:moveTo>
                  <a:arcTo wR="10800" hR="10800" stAng="-4389371" swAng="34554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3929" y="463"/>
                  </a:moveTo>
                  <a:arcTo wR="10800" hR="10800" stAng="-4389371" swAng="3455496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 rot="2700000">
              <a:off x="-312480" y="3636000"/>
              <a:ext cx="144360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950" y="1307"/>
                  </a:moveTo>
                  <a:arcTo wR="10800" hR="10800" stAng="-3691210" swAng="2151388"/>
                  <a:lnTo>
                    <a:pt x="10800" y="10800"/>
                  </a:lnTo>
                  <a:close/>
                </a:path>
                <a:path fill="none" w="21600" h="21600">
                  <a:moveTo>
                    <a:pt x="15950" y="1307"/>
                  </a:moveTo>
                  <a:arcTo wR="10800" hR="10800" stAng="-3691210" swAng="2151388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 rot="2700000">
              <a:off x="-308520" y="3634200"/>
              <a:ext cx="1445760" cy="1443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494" y="2325"/>
                  </a:moveTo>
                  <a:arcTo wR="10800" hR="10800" stAng="-3101654" swAng="847077"/>
                  <a:lnTo>
                    <a:pt x="10800" y="10800"/>
                  </a:lnTo>
                  <a:close/>
                </a:path>
                <a:path fill="none" w="21600" h="21600">
                  <a:moveTo>
                    <a:pt x="17494" y="2325"/>
                  </a:moveTo>
                  <a:arcTo wR="10800" hR="10800" stAng="-3101654" swAng="847077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rot="2700000">
              <a:off x="52920" y="4006080"/>
              <a:ext cx="682200" cy="68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38401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 rot="2700000">
              <a:off x="-320760" y="4881960"/>
              <a:ext cx="144432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8900000">
              <a:off x="290520" y="516600"/>
              <a:ext cx="1444680" cy="1443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76"/>
                  </a:moveTo>
                  <a:arcTo wR="10800" hR="10800" stAng="-10792444" swAng="539244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76"/>
                  </a:moveTo>
                  <a:arcTo wR="10800" hR="10800" stAng="-10792444" swAng="5392444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8900000">
              <a:off x="281520" y="515880"/>
              <a:ext cx="1444320" cy="1445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85" y="8337"/>
                  </a:moveTo>
                  <a:arcTo wR="10800" hR="10800" stAng="-10009022" swAng="3777837"/>
                  <a:lnTo>
                    <a:pt x="10800" y="10800"/>
                  </a:lnTo>
                  <a:close/>
                </a:path>
                <a:path fill="none" w="21600" h="21600">
                  <a:moveTo>
                    <a:pt x="285" y="8337"/>
                  </a:moveTo>
                  <a:arcTo wR="10800" hR="10800" stAng="-10009022" swAng="3777837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8900000">
              <a:off x="285840" y="515880"/>
              <a:ext cx="1443960" cy="1443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1" y="6324"/>
                  </a:moveTo>
                  <a:arcTo wR="10800" hR="10800" stAng="-9330867" swAng="2293109"/>
                  <a:lnTo>
                    <a:pt x="10800" y="10800"/>
                  </a:lnTo>
                  <a:close/>
                </a:path>
                <a:path fill="none" w="21600" h="21600">
                  <a:moveTo>
                    <a:pt x="971" y="6324"/>
                  </a:moveTo>
                  <a:arcTo wR="10800" hR="10800" stAng="-9330867" swAng="2293109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8900000">
              <a:off x="281160" y="516960"/>
              <a:ext cx="1444320" cy="1445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232" y="4225"/>
                  </a:moveTo>
                  <a:arcTo wR="10800" hR="10800" stAng="-8550030" swAng="872896"/>
                  <a:lnTo>
                    <a:pt x="10800" y="10800"/>
                  </a:lnTo>
                  <a:close/>
                </a:path>
                <a:path fill="none" w="21600" h="21600">
                  <a:moveTo>
                    <a:pt x="2232" y="4225"/>
                  </a:moveTo>
                  <a:arcTo wR="10800" hR="10800" stAng="-8550030" swAng="872896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rot="18900000">
              <a:off x="688680" y="896040"/>
              <a:ext cx="682200" cy="68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0"/>
                  </a:moveTo>
                  <a:arcTo wR="10800" hR="10800" stAng="-1078401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0"/>
                  </a:moveTo>
                  <a:arcTo wR="10800" hR="10800" stAng="-10784010" swAng="538401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rot="18900000">
              <a:off x="300240" y="1758240"/>
              <a:ext cx="1443960" cy="1443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76"/>
                  </a:moveTo>
                  <a:arcTo wR="10800" hR="10800" stAng="-10792444" swAng="539244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76"/>
                  </a:moveTo>
                  <a:arcTo wR="10800" hR="10800" stAng="-10792444" swAng="5392444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rot="18900000">
              <a:off x="291240" y="1757520"/>
              <a:ext cx="1443600" cy="1444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85" y="8337"/>
                  </a:moveTo>
                  <a:arcTo wR="10800" hR="10800" stAng="-10009022" swAng="3777837"/>
                  <a:lnTo>
                    <a:pt x="10800" y="10800"/>
                  </a:lnTo>
                  <a:close/>
                </a:path>
                <a:path fill="none" w="21600" h="21600">
                  <a:moveTo>
                    <a:pt x="285" y="8337"/>
                  </a:moveTo>
                  <a:arcTo wR="10800" hR="10800" stAng="-10009022" swAng="3777837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rot="18900000">
              <a:off x="295200" y="1757160"/>
              <a:ext cx="1443960" cy="1443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1" y="6324"/>
                  </a:moveTo>
                  <a:arcTo wR="10800" hR="10800" stAng="-9330867" swAng="2293109"/>
                  <a:lnTo>
                    <a:pt x="10800" y="10800"/>
                  </a:lnTo>
                  <a:close/>
                </a:path>
                <a:path fill="none" w="21600" h="21600">
                  <a:moveTo>
                    <a:pt x="971" y="6324"/>
                  </a:moveTo>
                  <a:arcTo wR="10800" hR="10800" stAng="-9330867" swAng="2293109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rot="18900000">
              <a:off x="285840" y="1758240"/>
              <a:ext cx="1444320" cy="1445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232" y="4225"/>
                  </a:moveTo>
                  <a:arcTo wR="10800" hR="10800" stAng="-8550030" swAng="872896"/>
                  <a:lnTo>
                    <a:pt x="10800" y="10800"/>
                  </a:lnTo>
                  <a:close/>
                </a:path>
                <a:path fill="none" w="21600" h="21600">
                  <a:moveTo>
                    <a:pt x="2232" y="4225"/>
                  </a:moveTo>
                  <a:arcTo wR="10800" hR="10800" stAng="-8550030" swAng="872896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 rot="18900000">
              <a:off x="687960" y="2137680"/>
              <a:ext cx="682200" cy="684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0"/>
                  </a:moveTo>
                  <a:arcTo wR="10800" hR="10800" stAng="-1078401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0"/>
                  </a:moveTo>
                  <a:arcTo wR="10800" hR="10800" stAng="-10784010" swAng="538401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 rot="2700000">
              <a:off x="-321480" y="2372760"/>
              <a:ext cx="1443600" cy="1442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929" y="463"/>
                  </a:moveTo>
                  <a:arcTo wR="10800" hR="10800" stAng="-4389371" swAng="34554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3929" y="463"/>
                  </a:moveTo>
                  <a:arcTo wR="10800" hR="10800" stAng="-4389371" swAng="3455496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 rot="2700000">
              <a:off x="-312480" y="2380320"/>
              <a:ext cx="144360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950" y="1307"/>
                  </a:moveTo>
                  <a:arcTo wR="10800" hR="10800" stAng="-3691210" swAng="2151388"/>
                  <a:lnTo>
                    <a:pt x="10800" y="10800"/>
                  </a:lnTo>
                  <a:close/>
                </a:path>
                <a:path fill="none" w="21600" h="21600">
                  <a:moveTo>
                    <a:pt x="15950" y="1307"/>
                  </a:moveTo>
                  <a:arcTo wR="10800" hR="10800" stAng="-3691210" swAng="2151388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 rot="2700000">
              <a:off x="-303840" y="2378520"/>
              <a:ext cx="1445760" cy="1443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494" y="2325"/>
                  </a:moveTo>
                  <a:arcTo wR="10800" hR="10800" stAng="-3101654" swAng="847077"/>
                  <a:lnTo>
                    <a:pt x="10800" y="10800"/>
                  </a:lnTo>
                  <a:close/>
                </a:path>
                <a:path fill="none" w="21600" h="21600">
                  <a:moveTo>
                    <a:pt x="17494" y="2325"/>
                  </a:moveTo>
                  <a:arcTo wR="10800" hR="10800" stAng="-3101654" swAng="847077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 rot="2700000">
              <a:off x="52920" y="2755440"/>
              <a:ext cx="682200" cy="68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38401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 rot="18900000">
              <a:off x="304920" y="3008880"/>
              <a:ext cx="1444680" cy="1443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76"/>
                  </a:moveTo>
                  <a:arcTo wR="10800" hR="10800" stAng="-10792444" swAng="539244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76"/>
                  </a:moveTo>
                  <a:arcTo wR="10800" hR="10800" stAng="-10792444" swAng="5392444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 rot="18900000">
              <a:off x="305280" y="3008880"/>
              <a:ext cx="1444320" cy="1444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85" y="8337"/>
                  </a:moveTo>
                  <a:arcTo wR="10800" hR="10800" stAng="-10009022" swAng="3777837"/>
                  <a:lnTo>
                    <a:pt x="10800" y="10800"/>
                  </a:lnTo>
                  <a:close/>
                </a:path>
                <a:path fill="none" w="21600" h="21600">
                  <a:moveTo>
                    <a:pt x="285" y="8337"/>
                  </a:moveTo>
                  <a:arcTo wR="10800" hR="10800" stAng="-10009022" swAng="3777837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 rot="18900000">
              <a:off x="300600" y="3008160"/>
              <a:ext cx="1443240" cy="1443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1" y="6324"/>
                  </a:moveTo>
                  <a:arcTo wR="10800" hR="10800" stAng="-9330867" swAng="2293109"/>
                  <a:lnTo>
                    <a:pt x="10800" y="10800"/>
                  </a:lnTo>
                  <a:close/>
                </a:path>
                <a:path fill="none" w="21600" h="21600">
                  <a:moveTo>
                    <a:pt x="971" y="6324"/>
                  </a:moveTo>
                  <a:arcTo wR="10800" hR="10800" stAng="-9330867" swAng="2293109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 rot="18900000">
              <a:off x="290520" y="3009240"/>
              <a:ext cx="1444320" cy="1445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232" y="4225"/>
                  </a:moveTo>
                  <a:arcTo wR="10800" hR="10800" stAng="-8550030" swAng="872896"/>
                  <a:lnTo>
                    <a:pt x="10800" y="10800"/>
                  </a:lnTo>
                  <a:close/>
                </a:path>
                <a:path fill="none" w="21600" h="21600">
                  <a:moveTo>
                    <a:pt x="2232" y="4225"/>
                  </a:moveTo>
                  <a:arcTo wR="10800" hR="10800" stAng="-8550030" swAng="872896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8900000">
              <a:off x="693000" y="3388680"/>
              <a:ext cx="682200" cy="684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0"/>
                  </a:moveTo>
                  <a:arcTo wR="10800" hR="10800" stAng="-1078401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0"/>
                  </a:moveTo>
                  <a:arcTo wR="10800" hR="10800" stAng="-10784010" swAng="538401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8900000">
              <a:off x="300240" y="4264920"/>
              <a:ext cx="1443960" cy="1443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76"/>
                  </a:moveTo>
                  <a:arcTo wR="10800" hR="10800" stAng="-10792444" swAng="539244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76"/>
                  </a:moveTo>
                  <a:arcTo wR="10800" hR="10800" stAng="-10792444" swAng="5392444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8900000">
              <a:off x="291240" y="4264200"/>
              <a:ext cx="1443600" cy="1444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85" y="8337"/>
                  </a:moveTo>
                  <a:arcTo wR="10800" hR="10800" stAng="-10009022" swAng="3777837"/>
                  <a:lnTo>
                    <a:pt x="10800" y="10800"/>
                  </a:lnTo>
                  <a:close/>
                </a:path>
                <a:path fill="none" w="21600" h="21600">
                  <a:moveTo>
                    <a:pt x="285" y="8337"/>
                  </a:moveTo>
                  <a:arcTo wR="10800" hR="10800" stAng="-10009022" swAng="3777837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8900000">
              <a:off x="295200" y="4263840"/>
              <a:ext cx="1443960" cy="1443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1" y="6324"/>
                  </a:moveTo>
                  <a:arcTo wR="10800" hR="10800" stAng="-9330867" swAng="2293109"/>
                  <a:lnTo>
                    <a:pt x="10800" y="10800"/>
                  </a:lnTo>
                  <a:close/>
                </a:path>
                <a:path fill="none" w="21600" h="21600">
                  <a:moveTo>
                    <a:pt x="971" y="6324"/>
                  </a:moveTo>
                  <a:arcTo wR="10800" hR="10800" stAng="-9330867" swAng="2293109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8900000">
              <a:off x="290520" y="4264920"/>
              <a:ext cx="1444320" cy="1445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232" y="4225"/>
                  </a:moveTo>
                  <a:arcTo wR="10800" hR="10800" stAng="-8550030" swAng="872896"/>
                  <a:lnTo>
                    <a:pt x="10800" y="10800"/>
                  </a:lnTo>
                  <a:close/>
                </a:path>
                <a:path fill="none" w="21600" h="21600">
                  <a:moveTo>
                    <a:pt x="2232" y="4225"/>
                  </a:moveTo>
                  <a:arcTo wR="10800" hR="10800" stAng="-8550030" swAng="872896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 rot="18900000">
              <a:off x="687960" y="4644360"/>
              <a:ext cx="682200" cy="684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0"/>
                  </a:moveTo>
                  <a:arcTo wR="10800" hR="10800" stAng="-1078401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0"/>
                  </a:moveTo>
                  <a:arcTo wR="10800" hR="10800" stAng="-10784010" swAng="538401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 rot="2700000">
              <a:off x="-321120" y="4874760"/>
              <a:ext cx="1442880" cy="1442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929" y="463"/>
                  </a:moveTo>
                  <a:arcTo wR="10800" hR="10800" stAng="-4389371" swAng="34554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3929" y="463"/>
                  </a:moveTo>
                  <a:arcTo wR="10800" hR="10800" stAng="-4389371" swAng="3455496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 rot="2700000">
              <a:off x="-312480" y="4882320"/>
              <a:ext cx="144360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950" y="1307"/>
                  </a:moveTo>
                  <a:arcTo wR="10800" hR="10800" stAng="-3691210" swAng="2151388"/>
                  <a:lnTo>
                    <a:pt x="10800" y="10800"/>
                  </a:lnTo>
                  <a:close/>
                </a:path>
                <a:path fill="none" w="21600" h="21600">
                  <a:moveTo>
                    <a:pt x="15950" y="1307"/>
                  </a:moveTo>
                  <a:arcTo wR="10800" hR="10800" stAng="-3691210" swAng="2151388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 rot="2700000">
              <a:off x="-308520" y="4880160"/>
              <a:ext cx="1444680" cy="1443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494" y="2325"/>
                  </a:moveTo>
                  <a:arcTo wR="10800" hR="10800" stAng="-3101654" swAng="847077"/>
                  <a:lnTo>
                    <a:pt x="10800" y="10800"/>
                  </a:lnTo>
                  <a:close/>
                </a:path>
                <a:path fill="none" w="21600" h="21600">
                  <a:moveTo>
                    <a:pt x="17494" y="2325"/>
                  </a:moveTo>
                  <a:arcTo wR="10800" hR="10800" stAng="-3101654" swAng="847077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 rot="2700000">
              <a:off x="52920" y="5257080"/>
              <a:ext cx="682200" cy="68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38401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 rot="18900000">
              <a:off x="300240" y="5511240"/>
              <a:ext cx="1443960" cy="1443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76"/>
                  </a:moveTo>
                  <a:arcTo wR="10800" hR="10800" stAng="-10792444" swAng="539244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76"/>
                  </a:moveTo>
                  <a:arcTo wR="10800" hR="10800" stAng="-10792444" swAng="5392444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 rot="18900000">
              <a:off x="291240" y="5510880"/>
              <a:ext cx="1443600" cy="1445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85" y="8337"/>
                  </a:moveTo>
                  <a:arcTo wR="10800" hR="10800" stAng="-10009022" swAng="3777837"/>
                  <a:lnTo>
                    <a:pt x="10800" y="10800"/>
                  </a:lnTo>
                  <a:close/>
                </a:path>
                <a:path fill="none" w="21600" h="21600">
                  <a:moveTo>
                    <a:pt x="285" y="8337"/>
                  </a:moveTo>
                  <a:arcTo wR="10800" hR="10800" stAng="-10009022" swAng="3777837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rot="18900000">
              <a:off x="295200" y="5510160"/>
              <a:ext cx="1443960" cy="1443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1" y="6324"/>
                  </a:moveTo>
                  <a:arcTo wR="10800" hR="10800" stAng="-9330867" swAng="2293109"/>
                  <a:lnTo>
                    <a:pt x="10800" y="10800"/>
                  </a:lnTo>
                  <a:close/>
                </a:path>
                <a:path fill="none" w="21600" h="21600">
                  <a:moveTo>
                    <a:pt x="971" y="6324"/>
                  </a:moveTo>
                  <a:arcTo wR="10800" hR="10800" stAng="-9330867" swAng="2293109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rot="18900000">
              <a:off x="285840" y="5511240"/>
              <a:ext cx="1444320" cy="1445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232" y="4225"/>
                  </a:moveTo>
                  <a:arcTo wR="10800" hR="10800" stAng="-8550030" swAng="872896"/>
                  <a:lnTo>
                    <a:pt x="10800" y="10800"/>
                  </a:lnTo>
                  <a:close/>
                </a:path>
                <a:path fill="none" w="21600" h="21600">
                  <a:moveTo>
                    <a:pt x="2232" y="4225"/>
                  </a:moveTo>
                  <a:arcTo wR="10800" hR="10800" stAng="-8550030" swAng="872896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 rot="18900000">
              <a:off x="688680" y="5890320"/>
              <a:ext cx="682200" cy="68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0"/>
                  </a:moveTo>
                  <a:arcTo wR="10800" hR="10800" stAng="-1078401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0"/>
                  </a:moveTo>
                  <a:arcTo wR="10800" hR="10800" stAng="-10784010" swAng="538401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7c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1"/>
          </p:nvPr>
        </p:nvSpPr>
        <p:spPr>
          <a:xfrm>
            <a:off x="1252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2"/>
          </p:nvPr>
        </p:nvSpPr>
        <p:spPr>
          <a:xfrm>
            <a:off x="3690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3"/>
          </p:nvPr>
        </p:nvSpPr>
        <p:spPr>
          <a:xfrm>
            <a:off x="7119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D4F44-C724-48E5-8358-C618E888E7F0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"/>
          <p:cNvGrpSpPr/>
          <p:nvPr/>
        </p:nvGrpSpPr>
        <p:grpSpPr>
          <a:xfrm>
            <a:off x="-2489760" y="-1479240"/>
            <a:ext cx="14158800" cy="14128560"/>
            <a:chOff x="-2489760" y="-1479240"/>
            <a:chExt cx="14158800" cy="14128560"/>
          </a:xfrm>
        </p:grpSpPr>
        <p:sp>
          <p:nvSpPr>
            <p:cNvPr id="93" name=""/>
            <p:cNvSpPr/>
            <p:nvPr/>
          </p:nvSpPr>
          <p:spPr>
            <a:xfrm rot="18900000">
              <a:off x="-402480" y="635040"/>
              <a:ext cx="9953280" cy="9952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7" y="0"/>
                  </a:moveTo>
                  <a:arcTo wR="10800" hR="10800" stAng="-5401097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7" y="0"/>
                  </a:moveTo>
                  <a:arcTo wR="10800" hR="10800" stAng="-5401097" swAng="5400000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rot="18900000">
              <a:off x="-414360" y="610560"/>
              <a:ext cx="9954000" cy="9954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215" y="274"/>
                  </a:moveTo>
                  <a:arcTo wR="10800" hR="10800" stAng="-4624598" swAng="3761142"/>
                  <a:lnTo>
                    <a:pt x="10800" y="10800"/>
                  </a:lnTo>
                  <a:close/>
                </a:path>
                <a:path fill="none" w="21600" h="21600">
                  <a:moveTo>
                    <a:pt x="13215" y="274"/>
                  </a:moveTo>
                  <a:arcTo wR="10800" hR="10800" stAng="-4624598" swAng="3761142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rot="18900000">
              <a:off x="-428400" y="608760"/>
              <a:ext cx="9950400" cy="9951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710" y="1180"/>
                  </a:moveTo>
                  <a:arcTo wR="10800" hR="10800" stAng="-3777650" swAng="2062072"/>
                  <a:lnTo>
                    <a:pt x="10800" y="10800"/>
                  </a:lnTo>
                  <a:close/>
                </a:path>
                <a:path fill="none" w="21600" h="21600">
                  <a:moveTo>
                    <a:pt x="15710" y="1180"/>
                  </a:moveTo>
                  <a:arcTo wR="10800" hR="10800" stAng="-3777650" swAng="2062072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rot="18900000">
              <a:off x="-345600" y="582480"/>
              <a:ext cx="9954000" cy="995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325" y="2194"/>
                  </a:moveTo>
                  <a:arcTo wR="10800" hR="10800" stAng="-3169821" swAng="821637"/>
                  <a:lnTo>
                    <a:pt x="10800" y="10800"/>
                  </a:lnTo>
                  <a:close/>
                </a:path>
                <a:path fill="none" w="21600" h="21600">
                  <a:moveTo>
                    <a:pt x="17325" y="2194"/>
                  </a:moveTo>
                  <a:arcTo wR="10800" hR="10800" stAng="-3169821" swAng="821637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rot="18900000">
              <a:off x="-6120" y="1043280"/>
              <a:ext cx="9207360" cy="9207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gradFill rotWithShape="0">
              <a:gsLst>
                <a:gs pos="0">
                  <a:srgbClr val="ff7c8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 rot="18900000">
              <a:off x="-17280" y="1020240"/>
              <a:ext cx="9205560" cy="9205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217" y="274"/>
                  </a:moveTo>
                  <a:arcTo wR="10800" hR="10800" stAng="-4624232" swAng="3761643"/>
                  <a:lnTo>
                    <a:pt x="10800" y="10800"/>
                  </a:lnTo>
                  <a:close/>
                </a:path>
                <a:path fill="none" w="21600" h="21600">
                  <a:moveTo>
                    <a:pt x="13217" y="274"/>
                  </a:moveTo>
                  <a:arcTo wR="10800" hR="10800" stAng="-4624232" swAng="3761643"/>
                </a:path>
              </a:pathLst>
            </a:cu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rot="18900000">
              <a:off x="-8640" y="1002960"/>
              <a:ext cx="9207000" cy="9207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712" y="1181"/>
                  </a:moveTo>
                  <a:arcTo wR="10800" hR="10800" stAng="-3776942" swAng="2062679"/>
                  <a:lnTo>
                    <a:pt x="10800" y="10800"/>
                  </a:lnTo>
                  <a:close/>
                </a:path>
                <a:path fill="none" w="21600" h="21600">
                  <a:moveTo>
                    <a:pt x="15712" y="1181"/>
                  </a:moveTo>
                  <a:arcTo wR="10800" hR="10800" stAng="-3776942" swAng="2062679"/>
                </a:path>
              </a:pathLst>
            </a:custGeom>
            <a:gradFill rotWithShape="0">
              <a:gsLst>
                <a:gs pos="0">
                  <a:srgbClr val="ff339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rot="18900000">
              <a:off x="47520" y="978840"/>
              <a:ext cx="9204840" cy="9207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325" y="2194"/>
                  </a:moveTo>
                  <a:arcTo wR="10800" hR="10800" stAng="-3170024" swAng="821920"/>
                  <a:lnTo>
                    <a:pt x="10800" y="10800"/>
                  </a:lnTo>
                  <a:close/>
                </a:path>
                <a:path fill="none" w="21600" h="21600">
                  <a:moveTo>
                    <a:pt x="17325" y="2194"/>
                  </a:moveTo>
                  <a:arcTo wR="10800" hR="10800" stAng="-3170024" swAng="821920"/>
                </a:path>
              </a:pathLst>
            </a:custGeom>
            <a:gradFill rotWithShape="0">
              <a:gsLst>
                <a:gs pos="0">
                  <a:srgbClr val="99009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rot="18900000">
              <a:off x="2535120" y="3738240"/>
              <a:ext cx="4075920" cy="407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76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dt" idx="4"/>
          </p:nvPr>
        </p:nvSpPr>
        <p:spPr>
          <a:xfrm>
            <a:off x="498240" y="93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ftr" idx="5"/>
          </p:nvPr>
        </p:nvSpPr>
        <p:spPr>
          <a:xfrm>
            <a:off x="3124080" y="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sldNum" idx="6"/>
          </p:nvPr>
        </p:nvSpPr>
        <p:spPr>
          <a:xfrm>
            <a:off x="6727680" y="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04173-73EA-48D7-9680-F36386699852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9933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cc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376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Optimizing Pixomatic For Modern Processors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1371600" y="49064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Michael Abrash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RAD Game Tools, Inc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From U,V To A Texture Address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905120" y="1828800"/>
            <a:ext cx="3047760" cy="609480"/>
          </a:xfrm>
          <a:prstGeom prst="rect">
            <a:avLst/>
          </a:prstGeom>
          <a:solidFill>
            <a:srgbClr val="9933ff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00VV.vvvv 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952880" y="1828800"/>
            <a:ext cx="3048120" cy="60948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UU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.</a:t>
            </a: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uuuuuu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585800" y="24372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63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894800" y="2437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973240" y="24372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48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98760" y="24372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47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541760" y="24372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32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922640" y="24372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3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20960" y="3733920"/>
            <a:ext cx="3047760" cy="609480"/>
          </a:xfrm>
          <a:prstGeom prst="rect">
            <a:avLst/>
          </a:prstGeom>
          <a:solidFill>
            <a:srgbClr val="969696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477120" y="3733920"/>
            <a:ext cx="1539720" cy="60948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UU.uu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1640" y="43423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63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910640" y="4342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989080" y="43423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48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414600" y="43423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47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557600" y="43423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32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938480" y="43423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3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021360" y="24372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16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402240" y="24372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15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21360" y="43423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16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402240" y="43423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15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666880" y="2438280"/>
            <a:ext cx="0" cy="53352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666880" y="2971800"/>
            <a:ext cx="3124440" cy="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791320" y="2971800"/>
            <a:ext cx="0" cy="762120"/>
          </a:xfrm>
          <a:prstGeom prst="line">
            <a:avLst/>
          </a:prstGeom>
          <a:ln w="1260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943600" y="2438280"/>
            <a:ext cx="0" cy="53352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943600" y="2971800"/>
            <a:ext cx="1371600" cy="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315200" y="2971800"/>
            <a:ext cx="0" cy="762120"/>
          </a:xfrm>
          <a:prstGeom prst="line">
            <a:avLst/>
          </a:prstGeom>
          <a:ln w="1260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952880" y="3733920"/>
            <a:ext cx="1524240" cy="609480"/>
          </a:xfrm>
          <a:prstGeom prst="rect">
            <a:avLst/>
          </a:prstGeom>
          <a:solidFill>
            <a:srgbClr val="9933ff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00VV 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920960" y="5562720"/>
            <a:ext cx="3047760" cy="609480"/>
          </a:xfrm>
          <a:prstGeom prst="rect">
            <a:avLst/>
          </a:prstGeom>
          <a:solidFill>
            <a:srgbClr val="969696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952880" y="5562720"/>
            <a:ext cx="3063960" cy="60948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0 0 0 0VVUU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1640" y="61711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63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910640" y="6171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989080" y="61711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48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414600" y="61711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47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557600" y="61711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32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938480" y="61711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3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021360" y="61711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16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402240" y="61711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15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477120" y="4343400"/>
            <a:ext cx="0" cy="53352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477120" y="4876920"/>
            <a:ext cx="761760" cy="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238880" y="4876920"/>
            <a:ext cx="0" cy="685800"/>
          </a:xfrm>
          <a:prstGeom prst="line">
            <a:avLst/>
          </a:prstGeom>
          <a:ln w="1260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923640" y="3047040"/>
            <a:ext cx="182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SHUFW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115880" y="4906080"/>
            <a:ext cx="144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SRL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Welded Code Sample 1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981080" y="1597680"/>
            <a:ext cx="6705720" cy="49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LoopTop: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add              esp,dword ptr [_RotatedFixed16ZXStep]       ; stepping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adc              esp,0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paddsw        mm2,mmword ptr [_argb7x_GouraudXStep]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paddd          mm0,mmword ptr _Spans+20h[esi]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cmp             sp,word ptr [ebx+ecx*2]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             ; z buffering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ja                 LoopBottom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mov             word ptr [ebx+ecx*2],sp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pand            mm0,mmword ptr [_TexMap]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     ; texture mapping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pshufw        mm5,mm0,0Dh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psrld            mm5,mmword ptr [_TexMap+28h]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movd           eax,mm5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movd           mm7,dword ptr [edx+eax*4]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movq           mm6,mm2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    ; Gouraud shading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punpcklbw  mm7,dword ptr [_MMX_0]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psllw           mm7,1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pmulhw       mm7,mm6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packuswb    mm7,mm7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                    ; pixel pack/write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movd           dword ptr [edi+ecx*4],mm7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LoopBottom: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inc              ecx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                            ; loop control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jne              LoopTop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Welded Code Sample 2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523880" y="1829520"/>
            <a:ext cx="3505320" cy="43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LoopTop: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add         esp,dword ptr [_RotatedFixed16ZXStep]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adc         esp,0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paddsw      mm2,mmword ptr [_argb7x_GouraudXStep]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paddd       mm0,mmword ptr _Spans+20h[esi]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cmp         sp,word ptr [ebx+ecx*2]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ja          LoopBottom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mov         word ptr [ebx+ecx*2],sp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pand        mm0,mmword ptr [_TexMap]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pshufw      mm6,mm0,0Dh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psrld       mm6,mmword ptr [_TexMap+28h]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movd        eax,mm6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movd        mm7,dword ptr [edx+eax*4]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pslld       mm6,mmword ptr [_TexMap+28h]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add         eax,dword ptr [_TexMap+0F4h]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and         eax,dword ptr [_TexMap+0F8h]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paddw       mm6,mmword ptr [_TexMap+40h]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psrld       mm6,mmword ptr [_TexMap+28h]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movq        mm4,mm0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psrld       mm4,mmword ptr [_TexMap+48h]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pand        mm4,mmword ptr [_MMX_0x003F003F003F003F]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movd        mm5,dword ptr [edx+eax*4]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movd        eax,mm6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punpcklbw   mm7,dword ptr [_MMX_0]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movd        mm6,dword ptr [edx+eax*4]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punpcklbw   mm5,dword ptr [_MMX_0]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pshufw      mm4,mm4,0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add         eax,dword ptr [_TexMap+0F4h]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332680" y="1813680"/>
            <a:ext cx="2697120" cy="46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and         eax,dword ptr [_TexMap+0F8h]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punpcklbw   mm6,dword ptr [_MMX_0]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movq        mmword ptr [_MMX_UFrac],mm4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movd        mm4,dword ptr [edx+eax*4]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punpcklbw   mm4,dword ptr [_MMX_0]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psubw       mm6,mm7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psubw       mm4,mm5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psubw       mm5,mm7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psubw       mm4,mm6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pmullw      mm6,mmword ptr [_MMX_UFrac]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psraw       mm6,6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pmullw      mm4,mmword ptr [_MMX_UFrac]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paddw       mm6,mm7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pshufw      mm7,mm0,0AAh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psrlw       mm7,6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psllw       mm5,6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pmulhw      mm4,mm7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pmulhw      mm7,mm5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paddw       mm6,mm4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paddw       mm7,mm6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packuswb    mm7,mm7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movq        mm6,mm2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punpcklbw   mm7,dword ptr [_MMX_0]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psllw       mm7,1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pmulhw      mm7,mm6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packuswb    mm7,mm7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movd        dword ptr [edi+ecx*4],mm7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LoopBottom: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inc         ecx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jne         LoopTop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Out Of Order Processing is Cool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No need to swizzle textur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No need to overlap divid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xtra moves are often fre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Try Stuff And See What Sticks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Loop Unrolling Is Rarely A Win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Unrolling once sometimes helpe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Branch Prediction, And Unexpected Implications Thereof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Linear Search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635800" y="578160"/>
            <a:ext cx="258264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if (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condition 1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handler 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else if (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condition 2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handler 2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else if (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condition 3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handler 3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els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handler 4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Linear Branching Patterns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523520" y="2026080"/>
            <a:ext cx="216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pass 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condition 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599480" y="3748320"/>
            <a:ext cx="2165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fail 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condition 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pass 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condition 2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177880" y="1965240"/>
            <a:ext cx="216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fail 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condition 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fail 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condition 2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pass 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condition 3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179320" y="3717720"/>
            <a:ext cx="2047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fail 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condition 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fail 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condition 2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fail 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condition 3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Binary Search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865480" y="959760"/>
            <a:ext cx="23360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if (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condition 2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if (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condition 1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        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handler 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els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         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handler 2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els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if (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condition 3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         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handler 3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els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         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handler 4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Assume Nothing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Linear Versus Binary Search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1447920" y="1828800"/>
          <a:ext cx="7326360" cy="4468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1828800"/>
                    <a:ext cx="7326360" cy="446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Help The Data Cache Work Efficiently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25244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Hundreds of cycles per miss to memor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Not always hidden by caching and out-of-order processing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on’t chase sparse pointer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void sparse accesses to large data structures in genera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SSE2 Didn’t Help Us Much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r integer ops, half the speed of MMX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oubled parallelism didn’t help u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Requires yet another code path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r doubles, only 2-way SIM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Small Changes -&gt; Huge Effects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ouble alignment on stack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64K aliasing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Hyperthreading Didn’t Help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Not a good fit for a standard 3D pipelin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otentially helpful for deferred rendering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Questions?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Pixomatic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218960" y="1981080"/>
            <a:ext cx="792468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X86 software renderer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Windows and Linux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High-end DX7-class feature se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7c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Except cubemap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Low-end DX7-class performanc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7c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eak P4/3GHz performance, 1 texture+Gouraud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9933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110 megapixels/secon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9933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4.86 million triangles/secon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A DX7-Class Rasterizer Turned Out To Be Possible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Appropriate Technology In Appropriate Places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25244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Mostly C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nline ASM in key plac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ustom preprocessor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Welding - code compiled on the fl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Pixel Pipeline Register Allocation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219320" y="22093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EAX - scratch registe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EBX - z-buffer pixel addres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ECX - loop counte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EDX - texture 0 pointe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ESI - span-list pointe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EDI - pixel-buffer pixel addres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EBP - texture 0 pointe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ESP - 1/z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MM0 - texture 0 coordinates (u0, v0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MM1 - texture 1 coordinates (u1, v1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MM2 - Gouraud colo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MM3 - specular colo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MM4-MM7 - scratch register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Span Generation Register Allocation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52440" y="22093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lnSpc>
                <a:spcPct val="75000"/>
              </a:lnSpc>
              <a:spcBef>
                <a:spcPts val="601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EAX - scratch register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EBX - -scanline length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08520" indent="-308520">
              <a:lnSpc>
                <a:spcPct val="75000"/>
              </a:lnSpc>
              <a:spcBef>
                <a:spcPts val="601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ECX - 1/z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EDX - scratch registe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08520" indent="-308520">
              <a:lnSpc>
                <a:spcPct val="75000"/>
              </a:lnSpc>
              <a:spcBef>
                <a:spcPts val="601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ESI - pixel-buffer pixel address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EBP - span list pointe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08520" indent="-308520">
              <a:lnSpc>
                <a:spcPct val="75000"/>
              </a:lnSpc>
              <a:spcBef>
                <a:spcPts val="601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EDI - z-buffer pixel address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ESP - stack pointe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08520" indent="-308520">
              <a:lnSpc>
                <a:spcPct val="75000"/>
              </a:lnSpc>
              <a:spcBef>
                <a:spcPts val="601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MM0 - previous span (u0, v0)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XMM0 - 1/w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08520" indent="-308520">
              <a:lnSpc>
                <a:spcPct val="75000"/>
              </a:lnSpc>
              <a:spcBef>
                <a:spcPts val="601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MM1 - previous span (u1, v1)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XMM1 - u0,v0,u1,v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08520" indent="-308520">
              <a:lnSpc>
                <a:spcPct val="75000"/>
              </a:lnSpc>
              <a:spcBef>
                <a:spcPts val="601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MM2 - Gouraud GB components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XMM2 - 1/w2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08520" indent="-308520">
              <a:lnSpc>
                <a:spcPct val="75000"/>
              </a:lnSpc>
              <a:spcBef>
                <a:spcPts val="601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MM3 - Gouraud AR components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XMM3 - left edge 1/w2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08520" indent="-308520">
              <a:lnSpc>
                <a:spcPct val="75000"/>
              </a:lnSpc>
              <a:spcBef>
                <a:spcPts val="601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MM4 - specular GB components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XMM4 - left edge 1/w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08520" indent="-308520">
              <a:lnSpc>
                <a:spcPct val="75000"/>
              </a:lnSpc>
              <a:spcBef>
                <a:spcPts val="601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MM3-MM7 - scratch registers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XMM5 - left edg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08520" indent="-308520">
              <a:lnSpc>
                <a:spcPct val="75000"/>
              </a:lnSpc>
              <a:spcBef>
                <a:spcPts val="601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XMM6-XMM7 - scratch registers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             u0, v0, u1, v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MMX Pixel Format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905120" y="2438280"/>
            <a:ext cx="1523880" cy="533520"/>
          </a:xfrm>
          <a:prstGeom prst="rect">
            <a:avLst/>
          </a:prstGeom>
          <a:solidFill>
            <a:srgbClr val="808080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477120" y="2438280"/>
            <a:ext cx="1523880" cy="533520"/>
          </a:xfrm>
          <a:prstGeom prst="rect">
            <a:avLst/>
          </a:prstGeom>
          <a:solidFill>
            <a:srgbClr val="0000ff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952880" y="2438280"/>
            <a:ext cx="1524240" cy="533520"/>
          </a:xfrm>
          <a:prstGeom prst="rect">
            <a:avLst/>
          </a:prstGeom>
          <a:solidFill>
            <a:srgbClr val="00ff00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429000" y="2438280"/>
            <a:ext cx="1523880" cy="533520"/>
          </a:xfrm>
          <a:prstGeom prst="rect">
            <a:avLst/>
          </a:prstGeom>
          <a:solidFill>
            <a:srgbClr val="ff0000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585800" y="29707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63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894800" y="2970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726640" y="3808080"/>
            <a:ext cx="4440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Each field has 8 integral bits;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he number of fractional bit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varies throughout the pipelin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Texture Mapping Code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8480" y="2514960"/>
            <a:ext cx="6030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and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m0,[WrapUV0Mask]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shufw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m5,mm0,0Dh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srld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m5,[WrapUV0RightShift]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ovd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eax,mm5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ovd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m7,[edx+eax]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add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m0,[UV0Step]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3T00:03:54Z</dcterms:created>
  <dc:creator>me</dc:creator>
  <dc:description/>
  <dc:language>en-US</dc:language>
  <cp:lastModifiedBy>TomF</cp:lastModifiedBy>
  <cp:lastPrinted>2004-03-15T23:34:27Z</cp:lastPrinted>
  <dcterms:modified xsi:type="dcterms:W3CDTF">2007-02-03T01:01:39Z</dcterms:modified>
  <cp:revision>99</cp:revision>
  <dc:subject/>
  <dc:title>Optimizing Pixomatic For Modern Processors</dc:title>
</cp:coreProperties>
</file>